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36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42.wmf" ContentType="image/x-wmf"/>
  <Override PartName="/ppt/media/image56.wmf" ContentType="image/x-wmf"/>
  <Override PartName="/ppt/media/image109.wmf" ContentType="image/x-wmf"/>
  <Override PartName="/ppt/media/image151.wmf" ContentType="image/x-wmf"/>
  <Override PartName="/ppt/media/image152.wmf" ContentType="image/x-wmf"/>
  <Override PartName="/ppt/media/image160.wmf" ContentType="image/x-wmf"/>
  <Override PartName="/ppt/media/image54.wmf" ContentType="image/x-wmf"/>
  <Override PartName="/ppt/media/image140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1B78-0E3D-4712-801C-E475E6CD1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E9AF-5600-44F4-969D-7DA8BDC91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8DCE-FE58-4AAD-A4B8-157B74ED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38B2-A4A8-464B-8503-8F09FEEE0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272D-A6E5-4BC7-8DC1-3851B624B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767-B85A-4B9A-BB1C-6BECDB417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7E2-B1E4-4E3E-9876-10C6991B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0AE1-FBDC-45CD-914A-23985B3A6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989-61E3-4E45-8CE2-BF3F83DD8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968-EBD4-4186-9B27-D47A2EEE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216F-C447-44AE-8B37-9943283B6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1431-33D8-4B08-86C0-8570E744D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E21-7039-451E-A7C6-EA84F90FA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D539-CC8D-4CE0-BA95-6F05EA819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55FE-ACF5-4879-B35A-5D343A8C7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C475-FD62-4D4F-87EB-42D97D71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954A-51DE-4ECD-B60A-5BFF3C026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7C7-6564-4C24-9871-166452DE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F2C-EAF8-4F10-9DEC-7C172A55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6CD-906D-4D2A-99B0-A5976882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441-C984-4BE3-876A-E50D874F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50E-7B8E-4FAF-8F0A-434F6A78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A1A-0043-417D-8EA2-7CDF7301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0FF-5F22-4C18-AAF1-5502E2CC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182-AB09-4C71-BCC1-E9D3FD98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E62-C151-4E99-9CD4-8BAC1A49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F57-61D1-4DA7-B595-CB8EFC4F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A76-F38C-43C5-A875-F5C524F8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3F3-5502-4D09-88E4-7726533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0BE2-8E72-4EEF-9BE4-9256ABFF0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1.wmf"/><Relationship Id="rId2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6.wmf"/><Relationship Id="rId2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4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3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0.wmf"/><Relationship Id="rId2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0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2.wmf"/><Relationship Id="rId3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3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7.wmf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1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94280" y="2895480"/>
            <a:ext cx="42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hmetic Sequences and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330120" y="237960"/>
          <a:ext cx="37972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237960"/>
                    <a:ext cx="37972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3"/>
          <p:cNvGrpSpPr/>
          <p:nvPr/>
        </p:nvGrpSpPr>
        <p:grpSpPr>
          <a:xfrm>
            <a:off x="2356920" y="839880"/>
            <a:ext cx="4202280" cy="3014640"/>
            <a:chOff x="2356920" y="839880"/>
            <a:chExt cx="4202280" cy="3014640"/>
          </a:xfrm>
        </p:grpSpPr>
        <p:grpSp>
          <p:nvGrpSpPr>
            <p:cNvPr id="207" name="Group 4"/>
            <p:cNvGrpSpPr/>
            <p:nvPr/>
          </p:nvGrpSpPr>
          <p:grpSpPr>
            <a:xfrm>
              <a:off x="3209760" y="911160"/>
              <a:ext cx="3349440" cy="2390760"/>
              <a:chOff x="3209760" y="911160"/>
              <a:chExt cx="3349440" cy="2390760"/>
            </a:xfrm>
          </p:grpSpPr>
          <p:graphicFrame>
            <p:nvGraphicFramePr>
              <p:cNvPr id="208" name="Object 5"/>
              <p:cNvGraphicFramePr/>
              <p:nvPr/>
            </p:nvGraphicFramePr>
            <p:xfrm>
              <a:off x="3241440" y="911160"/>
              <a:ext cx="2031840" cy="36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9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41440" y="911160"/>
                        <a:ext cx="203184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0" name="Object 6"/>
              <p:cNvGraphicFramePr/>
              <p:nvPr/>
            </p:nvGraphicFramePr>
            <p:xfrm>
              <a:off x="3238200" y="1444320"/>
              <a:ext cx="186696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1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38200" y="1444320"/>
                        <a:ext cx="18669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2" name="Object 7"/>
              <p:cNvGraphicFramePr/>
              <p:nvPr/>
            </p:nvGraphicFramePr>
            <p:xfrm>
              <a:off x="3209760" y="2444400"/>
              <a:ext cx="2781360" cy="368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13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09760" y="2444400"/>
                        <a:ext cx="27813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4" name="Object 8"/>
              <p:cNvGraphicFramePr/>
              <p:nvPr/>
            </p:nvGraphicFramePr>
            <p:xfrm>
              <a:off x="3358800" y="1965240"/>
              <a:ext cx="2844720" cy="35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15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358800" y="1965240"/>
                        <a:ext cx="2844720" cy="35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6" name="Object 9"/>
              <p:cNvGraphicFramePr/>
              <p:nvPr/>
            </p:nvGraphicFramePr>
            <p:xfrm>
              <a:off x="3346200" y="2946240"/>
              <a:ext cx="3213000" cy="355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17" name="Object 9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346200" y="2946240"/>
                        <a:ext cx="321300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18" name="Text Box 10"/>
            <p:cNvSpPr/>
            <p:nvPr/>
          </p:nvSpPr>
          <p:spPr>
            <a:xfrm>
              <a:off x="2538360" y="839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1"/>
            <p:cNvSpPr/>
            <p:nvPr/>
          </p:nvSpPr>
          <p:spPr>
            <a:xfrm>
              <a:off x="2539080" y="1868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2"/>
            <p:cNvSpPr/>
            <p:nvPr/>
          </p:nvSpPr>
          <p:spPr>
            <a:xfrm>
              <a:off x="2356920" y="13636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2434680" y="2344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4"/>
            <p:cNvSpPr/>
            <p:nvPr/>
          </p:nvSpPr>
          <p:spPr>
            <a:xfrm>
              <a:off x="2462400" y="286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Object 15"/>
            <p:cNvGraphicFramePr/>
            <p:nvPr/>
          </p:nvGraphicFramePr>
          <p:xfrm>
            <a:off x="3228840" y="3422520"/>
            <a:ext cx="2210040" cy="43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4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28840" y="3422520"/>
                      <a:ext cx="221004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25" name="Object 16"/>
          <p:cNvGraphicFramePr/>
          <p:nvPr/>
        </p:nvGraphicFramePr>
        <p:xfrm>
          <a:off x="3086280" y="4051440"/>
          <a:ext cx="25146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6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86280" y="4051440"/>
                    <a:ext cx="2514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7"/>
          <p:cNvGraphicFramePr/>
          <p:nvPr/>
        </p:nvGraphicFramePr>
        <p:xfrm>
          <a:off x="3083040" y="4702320"/>
          <a:ext cx="120636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8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83040" y="4702320"/>
                    <a:ext cx="12063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8"/>
          <p:cNvGraphicFramePr/>
          <p:nvPr/>
        </p:nvGraphicFramePr>
        <p:xfrm>
          <a:off x="3203640" y="5162400"/>
          <a:ext cx="88884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0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3640" y="5162400"/>
                    <a:ext cx="888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64600" y="14436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arithmetic means between –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719080" y="78264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4, ____, ____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2914560" y="1378080"/>
            <a:ext cx="3349440" cy="2390760"/>
            <a:chOff x="2914560" y="1378080"/>
            <a:chExt cx="3349440" cy="2390760"/>
          </a:xfrm>
        </p:grpSpPr>
        <p:graphicFrame>
          <p:nvGraphicFramePr>
            <p:cNvPr id="234" name="Object 5"/>
            <p:cNvGraphicFramePr/>
            <p:nvPr/>
          </p:nvGraphicFramePr>
          <p:xfrm>
            <a:off x="2946240" y="1378080"/>
            <a:ext cx="20318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6240" y="137808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6"/>
            <p:cNvGraphicFramePr/>
            <p:nvPr/>
          </p:nvGraphicFramePr>
          <p:xfrm>
            <a:off x="2943000" y="1911240"/>
            <a:ext cx="186696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43000" y="191124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Object 7"/>
            <p:cNvGraphicFramePr/>
            <p:nvPr/>
          </p:nvGraphicFramePr>
          <p:xfrm>
            <a:off x="2914560" y="2911320"/>
            <a:ext cx="27813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14560" y="291132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Object 8"/>
            <p:cNvGraphicFramePr/>
            <p:nvPr/>
          </p:nvGraphicFramePr>
          <p:xfrm>
            <a:off x="3063600" y="2432160"/>
            <a:ext cx="2844720" cy="355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243216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Object 9"/>
            <p:cNvGraphicFramePr/>
            <p:nvPr/>
          </p:nvGraphicFramePr>
          <p:xfrm>
            <a:off x="3051000" y="3413160"/>
            <a:ext cx="321300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51000" y="341316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4" name="Text Box 10"/>
          <p:cNvSpPr/>
          <p:nvPr/>
        </p:nvSpPr>
        <p:spPr>
          <a:xfrm>
            <a:off x="2148120" y="1316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2167200" y="2344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2205360" y="1839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2091600" y="2820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2205360" y="334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15"/>
          <p:cNvGraphicFramePr/>
          <p:nvPr/>
        </p:nvGraphicFramePr>
        <p:xfrm>
          <a:off x="3114720" y="3870360"/>
          <a:ext cx="22096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4720" y="387036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6"/>
          <p:cNvGraphicFramePr/>
          <p:nvPr/>
        </p:nvGraphicFramePr>
        <p:xfrm>
          <a:off x="3232080" y="4346640"/>
          <a:ext cx="241308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2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32080" y="4346640"/>
                    <a:ext cx="2413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7"/>
          <p:cNvGraphicFramePr/>
          <p:nvPr/>
        </p:nvGraphicFramePr>
        <p:xfrm>
          <a:off x="3213000" y="4807080"/>
          <a:ext cx="698760" cy="291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4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3000" y="4807080"/>
                    <a:ext cx="6987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Group 18"/>
          <p:cNvGrpSpPr/>
          <p:nvPr/>
        </p:nvGrpSpPr>
        <p:grpSpPr>
          <a:xfrm>
            <a:off x="383760" y="5240160"/>
            <a:ext cx="7893720" cy="983880"/>
            <a:chOff x="383760" y="5240160"/>
            <a:chExt cx="7893720" cy="983880"/>
          </a:xfrm>
        </p:grpSpPr>
        <p:sp>
          <p:nvSpPr>
            <p:cNvPr id="256" name="Text Box 19"/>
            <p:cNvSpPr/>
            <p:nvPr/>
          </p:nvSpPr>
          <p:spPr>
            <a:xfrm>
              <a:off x="383760" y="5240160"/>
              <a:ext cx="789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wo arithmetic means are –1 and 2, since –4,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-1,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20"/>
            <p:cNvSpPr/>
            <p:nvPr/>
          </p:nvSpPr>
          <p:spPr>
            <a:xfrm>
              <a:off x="2424960" y="5764320"/>
              <a:ext cx="417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ms an arithmetic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63880" y="1443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ree arithmetic means between 1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2719440" y="78264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, ____, ____, ____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2914560" y="1378080"/>
            <a:ext cx="3349440" cy="2390760"/>
            <a:chOff x="2914560" y="1378080"/>
            <a:chExt cx="3349440" cy="2390760"/>
          </a:xfrm>
        </p:grpSpPr>
        <p:graphicFrame>
          <p:nvGraphicFramePr>
            <p:cNvPr id="261" name="Object 5"/>
            <p:cNvGraphicFramePr/>
            <p:nvPr/>
          </p:nvGraphicFramePr>
          <p:xfrm>
            <a:off x="2946240" y="1378080"/>
            <a:ext cx="20318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46240" y="137808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6"/>
            <p:cNvGraphicFramePr/>
            <p:nvPr/>
          </p:nvGraphicFramePr>
          <p:xfrm>
            <a:off x="2943000" y="1911240"/>
            <a:ext cx="186696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43000" y="191124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7"/>
            <p:cNvGraphicFramePr/>
            <p:nvPr/>
          </p:nvGraphicFramePr>
          <p:xfrm>
            <a:off x="2914560" y="2911320"/>
            <a:ext cx="27813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14560" y="291132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Object 8"/>
            <p:cNvGraphicFramePr/>
            <p:nvPr/>
          </p:nvGraphicFramePr>
          <p:xfrm>
            <a:off x="3063600" y="2432160"/>
            <a:ext cx="2844720" cy="355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8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63600" y="243216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Object 9"/>
            <p:cNvGraphicFramePr/>
            <p:nvPr/>
          </p:nvGraphicFramePr>
          <p:xfrm>
            <a:off x="3051000" y="3413160"/>
            <a:ext cx="321300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0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51000" y="341316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1" name="Text Box 10"/>
          <p:cNvSpPr/>
          <p:nvPr/>
        </p:nvSpPr>
        <p:spPr>
          <a:xfrm>
            <a:off x="2148120" y="13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2167200" y="2344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205360" y="1839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2091600" y="2820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205360" y="3344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Object 15"/>
          <p:cNvGraphicFramePr/>
          <p:nvPr/>
        </p:nvGraphicFramePr>
        <p:xfrm>
          <a:off x="3114720" y="3870360"/>
          <a:ext cx="22096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14720" y="387036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6"/>
          <p:cNvGraphicFramePr/>
          <p:nvPr/>
        </p:nvGraphicFramePr>
        <p:xfrm>
          <a:off x="3238560" y="4346640"/>
          <a:ext cx="217152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38560" y="4346640"/>
                    <a:ext cx="21715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7"/>
          <p:cNvGraphicFramePr/>
          <p:nvPr/>
        </p:nvGraphicFramePr>
        <p:xfrm>
          <a:off x="3235320" y="4762440"/>
          <a:ext cx="74916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35320" y="4762440"/>
                    <a:ext cx="749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2" name="Group 18"/>
          <p:cNvGrpSpPr/>
          <p:nvPr/>
        </p:nvGrpSpPr>
        <p:grpSpPr>
          <a:xfrm>
            <a:off x="592920" y="5573880"/>
            <a:ext cx="7691040" cy="954720"/>
            <a:chOff x="592920" y="5573880"/>
            <a:chExt cx="7691040" cy="954720"/>
          </a:xfrm>
        </p:grpSpPr>
        <p:sp>
          <p:nvSpPr>
            <p:cNvPr id="283" name="Text Box 19"/>
            <p:cNvSpPr/>
            <p:nvPr/>
          </p:nvSpPr>
          <p:spPr>
            <a:xfrm>
              <a:off x="955800" y="5573880"/>
              <a:ext cx="70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hree arithmetic means are 7/4, 10/4, and 13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20"/>
            <p:cNvSpPr/>
            <p:nvPr/>
          </p:nvSpPr>
          <p:spPr>
            <a:xfrm>
              <a:off x="592920" y="6068880"/>
              <a:ext cx="769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1,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7/4, 10/4, 13/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4 forms an arithmetic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215280" y="17316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n for the series in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4292640" y="244440"/>
          <a:ext cx="28447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244440"/>
                    <a:ext cx="28447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Group 4"/>
          <p:cNvGrpSpPr/>
          <p:nvPr/>
        </p:nvGrpSpPr>
        <p:grpSpPr>
          <a:xfrm>
            <a:off x="914400" y="787320"/>
            <a:ext cx="3349440" cy="2390760"/>
            <a:chOff x="914400" y="787320"/>
            <a:chExt cx="3349440" cy="2390760"/>
          </a:xfrm>
        </p:grpSpPr>
        <p:graphicFrame>
          <p:nvGraphicFramePr>
            <p:cNvPr id="289" name="Object 5"/>
            <p:cNvGraphicFramePr/>
            <p:nvPr/>
          </p:nvGraphicFramePr>
          <p:xfrm>
            <a:off x="946080" y="787320"/>
            <a:ext cx="20318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0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6080" y="78732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1" name="Object 6"/>
            <p:cNvGraphicFramePr/>
            <p:nvPr/>
          </p:nvGraphicFramePr>
          <p:xfrm>
            <a:off x="942840" y="1320480"/>
            <a:ext cx="18669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42840" y="132048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7"/>
            <p:cNvGraphicFramePr/>
            <p:nvPr/>
          </p:nvGraphicFramePr>
          <p:xfrm>
            <a:off x="914400" y="232056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14400" y="232056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8"/>
            <p:cNvGraphicFramePr/>
            <p:nvPr/>
          </p:nvGraphicFramePr>
          <p:xfrm>
            <a:off x="1063440" y="1841400"/>
            <a:ext cx="2844720" cy="35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6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63440" y="184140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9"/>
            <p:cNvGraphicFramePr/>
            <p:nvPr/>
          </p:nvGraphicFramePr>
          <p:xfrm>
            <a:off x="1050840" y="2822400"/>
            <a:ext cx="321300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8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50840" y="282240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9" name="Text Box 10"/>
          <p:cNvSpPr/>
          <p:nvPr/>
        </p:nvSpPr>
        <p:spPr>
          <a:xfrm>
            <a:off x="338400" y="725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57480" y="175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39528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148680" y="2230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95640" y="2754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15"/>
          <p:cNvGraphicFramePr/>
          <p:nvPr/>
        </p:nvGraphicFramePr>
        <p:xfrm>
          <a:off x="1066680" y="3375000"/>
          <a:ext cx="221004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3375000"/>
                    <a:ext cx="2210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6"/>
          <p:cNvGraphicFramePr/>
          <p:nvPr/>
        </p:nvGraphicFramePr>
        <p:xfrm>
          <a:off x="993600" y="4648320"/>
          <a:ext cx="203220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93600" y="4648320"/>
                    <a:ext cx="2032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7"/>
          <p:cNvGraphicFramePr/>
          <p:nvPr/>
        </p:nvGraphicFramePr>
        <p:xfrm>
          <a:off x="1181160" y="3908520"/>
          <a:ext cx="1981080" cy="431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81160" y="3908520"/>
                    <a:ext cx="19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8"/>
          <p:cNvGraphicFramePr/>
          <p:nvPr/>
        </p:nvGraphicFramePr>
        <p:xfrm>
          <a:off x="819000" y="5467320"/>
          <a:ext cx="198144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1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9000" y="5467320"/>
                    <a:ext cx="1981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9"/>
          <p:cNvGraphicFramePr/>
          <p:nvPr/>
        </p:nvGraphicFramePr>
        <p:xfrm>
          <a:off x="4962600" y="990720"/>
          <a:ext cx="3276360" cy="723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3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62600" y="990720"/>
                    <a:ext cx="32763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20"/>
          <p:cNvGraphicFramePr/>
          <p:nvPr/>
        </p:nvGraphicFramePr>
        <p:xfrm>
          <a:off x="4968720" y="1768320"/>
          <a:ext cx="2159280" cy="787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5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968720" y="1768320"/>
                    <a:ext cx="21592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21"/>
          <p:cNvGraphicFramePr/>
          <p:nvPr/>
        </p:nvGraphicFramePr>
        <p:xfrm>
          <a:off x="4943520" y="2631960"/>
          <a:ext cx="2095560" cy="432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7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43520" y="263196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2"/>
          <p:cNvGraphicFramePr/>
          <p:nvPr/>
        </p:nvGraphicFramePr>
        <p:xfrm>
          <a:off x="5245200" y="3152880"/>
          <a:ext cx="2425680" cy="342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9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45200" y="3152880"/>
                    <a:ext cx="24256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 Box 23"/>
          <p:cNvSpPr/>
          <p:nvPr/>
        </p:nvSpPr>
        <p:spPr>
          <a:xfrm>
            <a:off x="6195600" y="4211640"/>
            <a:ext cx="1070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4866120" y="361152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on positive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2054160" y="304812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2 – Geometric Sequences and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914400" y="380880"/>
          <a:ext cx="182880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18288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3"/>
          <p:cNvSpPr/>
          <p:nvPr/>
        </p:nvSpPr>
        <p:spPr>
          <a:xfrm>
            <a:off x="291600" y="21733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ithmet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86160" y="266688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5181480" y="390600"/>
          <a:ext cx="2184480" cy="17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90600"/>
                    <a:ext cx="21844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Text Box 6"/>
          <p:cNvSpPr/>
          <p:nvPr/>
        </p:nvSpPr>
        <p:spPr>
          <a:xfrm>
            <a:off x="4498200" y="21733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eometr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4893120" y="266688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758160" y="387360"/>
            <a:ext cx="3280320" cy="4411080"/>
            <a:chOff x="758160" y="387360"/>
            <a:chExt cx="3280320" cy="4411080"/>
          </a:xfrm>
        </p:grpSpPr>
        <p:sp>
          <p:nvSpPr>
            <p:cNvPr id="332" name="Text Box 9"/>
            <p:cNvSpPr/>
            <p:nvPr/>
          </p:nvSpPr>
          <p:spPr>
            <a:xfrm>
              <a:off x="758160" y="384336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rithmet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0"/>
            <p:cNvSpPr/>
            <p:nvPr/>
          </p:nvSpPr>
          <p:spPr>
            <a:xfrm>
              <a:off x="889200" y="433872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4" name="Object 11"/>
            <p:cNvGraphicFramePr/>
            <p:nvPr/>
          </p:nvGraphicFramePr>
          <p:xfrm>
            <a:off x="3200400" y="387360"/>
            <a:ext cx="838080" cy="165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35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87360"/>
                      <a:ext cx="83808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36" name="Group 12"/>
          <p:cNvGrpSpPr/>
          <p:nvPr/>
        </p:nvGrpSpPr>
        <p:grpSpPr>
          <a:xfrm>
            <a:off x="5101200" y="396720"/>
            <a:ext cx="3299760" cy="4411080"/>
            <a:chOff x="5101200" y="396720"/>
            <a:chExt cx="3299760" cy="4411080"/>
          </a:xfrm>
        </p:grpSpPr>
        <p:sp>
          <p:nvSpPr>
            <p:cNvPr id="337" name="Text Box 13"/>
            <p:cNvSpPr/>
            <p:nvPr/>
          </p:nvSpPr>
          <p:spPr>
            <a:xfrm>
              <a:off x="5101200" y="385272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eometr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4"/>
            <p:cNvSpPr/>
            <p:nvPr/>
          </p:nvSpPr>
          <p:spPr>
            <a:xfrm>
              <a:off x="5232600" y="434808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9" name="Object 15"/>
            <p:cNvGraphicFramePr/>
            <p:nvPr/>
          </p:nvGraphicFramePr>
          <p:xfrm>
            <a:off x="7524720" y="396720"/>
            <a:ext cx="87624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0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4720" y="396720"/>
                      <a:ext cx="87624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809720" y="21096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of Sequences (Uni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174840" y="844560"/>
          <a:ext cx="20322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844560"/>
                    <a:ext cx="2032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3171960" y="1378080"/>
          <a:ext cx="18666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1960" y="1378080"/>
                    <a:ext cx="1866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5"/>
          <p:cNvGraphicFramePr/>
          <p:nvPr/>
        </p:nvGraphicFramePr>
        <p:xfrm>
          <a:off x="3143160" y="2378160"/>
          <a:ext cx="27813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2378160"/>
                    <a:ext cx="2781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6"/>
          <p:cNvGraphicFramePr/>
          <p:nvPr/>
        </p:nvGraphicFramePr>
        <p:xfrm>
          <a:off x="3292560" y="1898640"/>
          <a:ext cx="2844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2560" y="1898640"/>
                    <a:ext cx="284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7"/>
          <p:cNvGraphicFramePr/>
          <p:nvPr/>
        </p:nvGraphicFramePr>
        <p:xfrm>
          <a:off x="3314880" y="2879640"/>
          <a:ext cx="24001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14880" y="2879640"/>
                    <a:ext cx="24001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8"/>
          <p:cNvGraphicFramePr/>
          <p:nvPr/>
        </p:nvGraphicFramePr>
        <p:xfrm>
          <a:off x="533520" y="3505320"/>
          <a:ext cx="7746840" cy="142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3505320"/>
                    <a:ext cx="774684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361800" y="344520"/>
            <a:ext cx="71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three terms of 2, 3, 9/2, ___, ___, 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964160" y="87804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3 – 2 vs. 9/2 – 3… not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1905120" y="1371600"/>
          <a:ext cx="47368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4736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Group 5"/>
          <p:cNvGrpSpPr/>
          <p:nvPr/>
        </p:nvGrpSpPr>
        <p:grpSpPr>
          <a:xfrm>
            <a:off x="1905120" y="2514600"/>
            <a:ext cx="4851360" cy="838080"/>
            <a:chOff x="1905120" y="2514600"/>
            <a:chExt cx="4851360" cy="838080"/>
          </a:xfrm>
        </p:grpSpPr>
        <p:graphicFrame>
          <p:nvGraphicFramePr>
            <p:cNvPr id="359" name="Object 6"/>
            <p:cNvGraphicFramePr/>
            <p:nvPr/>
          </p:nvGraphicFramePr>
          <p:xfrm>
            <a:off x="1905120" y="2514600"/>
            <a:ext cx="485136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2514600"/>
                      <a:ext cx="48513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61" name="Group 7"/>
            <p:cNvGrpSpPr/>
            <p:nvPr/>
          </p:nvGrpSpPr>
          <p:grpSpPr>
            <a:xfrm>
              <a:off x="2895480" y="3352680"/>
              <a:ext cx="3810240" cy="0"/>
              <a:chOff x="2895480" y="3352680"/>
              <a:chExt cx="3810240" cy="0"/>
            </a:xfrm>
          </p:grpSpPr>
          <p:sp>
            <p:nvSpPr>
              <p:cNvPr id="362" name="Line 8"/>
              <p:cNvSpPr/>
              <p:nvPr/>
            </p:nvSpPr>
            <p:spPr>
              <a:xfrm>
                <a:off x="2895480" y="335268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9"/>
              <p:cNvSpPr/>
              <p:nvPr/>
            </p:nvSpPr>
            <p:spPr>
              <a:xfrm>
                <a:off x="3657600" y="335268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0"/>
              <p:cNvSpPr/>
              <p:nvPr/>
            </p:nvSpPr>
            <p:spPr>
              <a:xfrm>
                <a:off x="5029200" y="335268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65" name="Object 11"/>
          <p:cNvGraphicFramePr/>
          <p:nvPr/>
        </p:nvGraphicFramePr>
        <p:xfrm>
          <a:off x="2895480" y="3886200"/>
          <a:ext cx="25783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886200"/>
                    <a:ext cx="2578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152280" y="152280"/>
          <a:ext cx="29718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2971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Group 3"/>
          <p:cNvGrpSpPr/>
          <p:nvPr/>
        </p:nvGrpSpPr>
        <p:grpSpPr>
          <a:xfrm>
            <a:off x="3127320" y="1003320"/>
            <a:ext cx="2994120" cy="2390760"/>
            <a:chOff x="3127320" y="1003320"/>
            <a:chExt cx="2994120" cy="2390760"/>
          </a:xfrm>
        </p:grpSpPr>
        <p:graphicFrame>
          <p:nvGraphicFramePr>
            <p:cNvPr id="370" name="Object 4"/>
            <p:cNvGraphicFramePr/>
            <p:nvPr/>
          </p:nvGraphicFramePr>
          <p:xfrm>
            <a:off x="3159000" y="100332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59000" y="100332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Object 5"/>
            <p:cNvGraphicFramePr/>
            <p:nvPr/>
          </p:nvGraphicFramePr>
          <p:xfrm>
            <a:off x="3156120" y="153684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56120" y="153684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4" name="Object 6"/>
            <p:cNvGraphicFramePr/>
            <p:nvPr/>
          </p:nvGraphicFramePr>
          <p:xfrm>
            <a:off x="3127320" y="253692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127320" y="253692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6" name="Object 7"/>
            <p:cNvGraphicFramePr/>
            <p:nvPr/>
          </p:nvGraphicFramePr>
          <p:xfrm>
            <a:off x="3276720" y="205740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76720" y="205740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8" name="Object 8"/>
            <p:cNvGraphicFramePr/>
            <p:nvPr/>
          </p:nvGraphicFramePr>
          <p:xfrm>
            <a:off x="3298680" y="303840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9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98680" y="303840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0" name="Text Box 9"/>
          <p:cNvSpPr/>
          <p:nvPr/>
        </p:nvSpPr>
        <p:spPr>
          <a:xfrm>
            <a:off x="6402600" y="914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6545520" y="138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45520" y="194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6450840" y="2438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6411960" y="2933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Object 14"/>
          <p:cNvGraphicFramePr/>
          <p:nvPr/>
        </p:nvGraphicFramePr>
        <p:xfrm>
          <a:off x="3568680" y="3797280"/>
          <a:ext cx="1282680" cy="406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6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8680" y="379728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5"/>
          <p:cNvGraphicFramePr/>
          <p:nvPr/>
        </p:nvGraphicFramePr>
        <p:xfrm>
          <a:off x="3689280" y="4210200"/>
          <a:ext cx="1879560" cy="876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8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89280" y="4210200"/>
                    <a:ext cx="18795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16"/>
          <p:cNvGraphicFramePr/>
          <p:nvPr/>
        </p:nvGraphicFramePr>
        <p:xfrm>
          <a:off x="3654360" y="5280120"/>
          <a:ext cx="1320840" cy="77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4360" y="5280120"/>
                    <a:ext cx="1320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17"/>
          <p:cNvGraphicFramePr/>
          <p:nvPr/>
        </p:nvGraphicFramePr>
        <p:xfrm>
          <a:off x="5057640" y="5299200"/>
          <a:ext cx="648000" cy="774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2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57640" y="5299200"/>
                    <a:ext cx="648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8"/>
          <p:cNvGraphicFramePr/>
          <p:nvPr/>
        </p:nvGraphicFramePr>
        <p:xfrm>
          <a:off x="5803920" y="5353200"/>
          <a:ext cx="965160" cy="72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4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03920" y="5353200"/>
                    <a:ext cx="96516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27160" y="27792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wo geometric means between –2 and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2967120" y="8967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2, ____, ____,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289080" y="1536840"/>
            <a:ext cx="2993400" cy="2390760"/>
            <a:chOff x="289080" y="1536840"/>
            <a:chExt cx="2993400" cy="2390760"/>
          </a:xfrm>
        </p:grpSpPr>
        <p:graphicFrame>
          <p:nvGraphicFramePr>
            <p:cNvPr id="398" name="Object 5"/>
            <p:cNvGraphicFramePr/>
            <p:nvPr/>
          </p:nvGraphicFramePr>
          <p:xfrm>
            <a:off x="320400" y="1536840"/>
            <a:ext cx="2031840" cy="36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400" y="153684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Object 6"/>
            <p:cNvGraphicFramePr/>
            <p:nvPr/>
          </p:nvGraphicFramePr>
          <p:xfrm>
            <a:off x="317520" y="2070360"/>
            <a:ext cx="18662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1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7520" y="2070360"/>
                      <a:ext cx="18662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Object 7"/>
            <p:cNvGraphicFramePr/>
            <p:nvPr/>
          </p:nvGraphicFramePr>
          <p:xfrm>
            <a:off x="289080" y="3070440"/>
            <a:ext cx="27810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080" y="3070440"/>
                      <a:ext cx="27810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Object 8"/>
            <p:cNvGraphicFramePr/>
            <p:nvPr/>
          </p:nvGraphicFramePr>
          <p:xfrm>
            <a:off x="438120" y="2590920"/>
            <a:ext cx="2844360" cy="355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8120" y="2590920"/>
                      <a:ext cx="28443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Object 9"/>
            <p:cNvGraphicFramePr/>
            <p:nvPr/>
          </p:nvGraphicFramePr>
          <p:xfrm>
            <a:off x="460080" y="3571920"/>
            <a:ext cx="24001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0080" y="3571920"/>
                      <a:ext cx="24001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8" name="Text Box 10"/>
          <p:cNvSpPr/>
          <p:nvPr/>
        </p:nvSpPr>
        <p:spPr>
          <a:xfrm>
            <a:off x="3735360" y="1447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3707640" y="1914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3764160" y="247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3612600" y="2971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3764160" y="34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15"/>
          <p:cNvGraphicFramePr/>
          <p:nvPr/>
        </p:nvGraphicFramePr>
        <p:xfrm>
          <a:off x="5759280" y="1844640"/>
          <a:ext cx="12830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4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9280" y="1844640"/>
                    <a:ext cx="1283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6"/>
          <p:cNvGraphicFramePr/>
          <p:nvPr/>
        </p:nvGraphicFramePr>
        <p:xfrm>
          <a:off x="5724360" y="2352600"/>
          <a:ext cx="198144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6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2352600"/>
                    <a:ext cx="1981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17"/>
          <p:cNvGraphicFramePr/>
          <p:nvPr/>
        </p:nvGraphicFramePr>
        <p:xfrm>
          <a:off x="5981760" y="2959200"/>
          <a:ext cx="114300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8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81760" y="2959200"/>
                    <a:ext cx="11430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8"/>
          <p:cNvGraphicFramePr/>
          <p:nvPr/>
        </p:nvGraphicFramePr>
        <p:xfrm>
          <a:off x="6153120" y="3416400"/>
          <a:ext cx="87624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20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3120" y="3416400"/>
                    <a:ext cx="876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Group 19"/>
          <p:cNvGrpSpPr/>
          <p:nvPr/>
        </p:nvGrpSpPr>
        <p:grpSpPr>
          <a:xfrm>
            <a:off x="356040" y="4649760"/>
            <a:ext cx="8350920" cy="983520"/>
            <a:chOff x="356040" y="4649760"/>
            <a:chExt cx="8350920" cy="983520"/>
          </a:xfrm>
        </p:grpSpPr>
        <p:sp>
          <p:nvSpPr>
            <p:cNvPr id="422" name="Text Box 20"/>
            <p:cNvSpPr/>
            <p:nvPr/>
          </p:nvSpPr>
          <p:spPr>
            <a:xfrm>
              <a:off x="356040" y="4649760"/>
              <a:ext cx="83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wo geometric means are 6 and -18, since –2,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6, -1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21"/>
            <p:cNvSpPr/>
            <p:nvPr/>
          </p:nvSpPr>
          <p:spPr>
            <a:xfrm>
              <a:off x="2396520" y="517356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ms an geometric seq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92320" y="2682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914400" y="1158840"/>
          <a:ext cx="182880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58840"/>
                    <a:ext cx="182880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1600" y="295128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ithmet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6160" y="344484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5181480" y="1168560"/>
          <a:ext cx="218448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168560"/>
                    <a:ext cx="218448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4498200" y="295128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eometric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93120" y="3444840"/>
            <a:ext cx="255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758160" y="1165320"/>
            <a:ext cx="3280320" cy="4411080"/>
            <a:chOff x="758160" y="1165320"/>
            <a:chExt cx="3280320" cy="4411080"/>
          </a:xfrm>
        </p:grpSpPr>
        <p:sp>
          <p:nvSpPr>
            <p:cNvPr id="59" name="Text Box 10"/>
            <p:cNvSpPr/>
            <p:nvPr/>
          </p:nvSpPr>
          <p:spPr>
            <a:xfrm>
              <a:off x="758160" y="462132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Arithmet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889200" y="511668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Object 12"/>
            <p:cNvGraphicFramePr/>
            <p:nvPr/>
          </p:nvGraphicFramePr>
          <p:xfrm>
            <a:off x="3200400" y="1165320"/>
            <a:ext cx="838080" cy="165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1165320"/>
                      <a:ext cx="83808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" name="Group 13"/>
          <p:cNvGrpSpPr/>
          <p:nvPr/>
        </p:nvGrpSpPr>
        <p:grpSpPr>
          <a:xfrm>
            <a:off x="5101200" y="1174680"/>
            <a:ext cx="3299760" cy="4411080"/>
            <a:chOff x="5101200" y="1174680"/>
            <a:chExt cx="3299760" cy="4411080"/>
          </a:xfrm>
        </p:grpSpPr>
        <p:sp>
          <p:nvSpPr>
            <p:cNvPr id="64" name="Text Box 14"/>
            <p:cNvSpPr/>
            <p:nvPr/>
          </p:nvSpPr>
          <p:spPr>
            <a:xfrm>
              <a:off x="5101200" y="4630680"/>
              <a:ext cx="25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eometric S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5"/>
            <p:cNvSpPr/>
            <p:nvPr/>
          </p:nvSpPr>
          <p:spPr>
            <a:xfrm>
              <a:off x="5232600" y="5126040"/>
              <a:ext cx="209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um of Te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Object 16"/>
            <p:cNvGraphicFramePr/>
            <p:nvPr/>
          </p:nvGraphicFramePr>
          <p:xfrm>
            <a:off x="7524720" y="1174680"/>
            <a:ext cx="876240" cy="165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4720" y="1174680"/>
                      <a:ext cx="876240" cy="16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231840" y="142920"/>
          <a:ext cx="41274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2920"/>
                    <a:ext cx="41274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Text Box 3"/>
          <p:cNvSpPr/>
          <p:nvPr/>
        </p:nvSpPr>
        <p:spPr>
          <a:xfrm>
            <a:off x="2710440" y="11066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3, ____, ____, 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Object 4"/>
          <p:cNvGraphicFramePr/>
          <p:nvPr/>
        </p:nvGraphicFramePr>
        <p:xfrm>
          <a:off x="3137040" y="2143080"/>
          <a:ext cx="17650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2143080"/>
                    <a:ext cx="17650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5"/>
          <p:cNvGraphicFramePr/>
          <p:nvPr/>
        </p:nvGraphicFramePr>
        <p:xfrm>
          <a:off x="2968560" y="3390840"/>
          <a:ext cx="196848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68560" y="3390840"/>
                    <a:ext cx="19684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2260440" y="4356000"/>
          <a:ext cx="34801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0440" y="4356000"/>
                    <a:ext cx="348012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3650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3"/>
          <p:cNvGraphicFramePr/>
          <p:nvPr/>
        </p:nvGraphicFramePr>
        <p:xfrm>
          <a:off x="200160" y="171360"/>
          <a:ext cx="3085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71360"/>
                    <a:ext cx="308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Group 4"/>
          <p:cNvGrpSpPr/>
          <p:nvPr/>
        </p:nvGrpSpPr>
        <p:grpSpPr>
          <a:xfrm>
            <a:off x="1908000" y="1117440"/>
            <a:ext cx="2994120" cy="2390760"/>
            <a:chOff x="1908000" y="1117440"/>
            <a:chExt cx="2994120" cy="2390760"/>
          </a:xfrm>
        </p:grpSpPr>
        <p:graphicFrame>
          <p:nvGraphicFramePr>
            <p:cNvPr id="437" name="Object 5"/>
            <p:cNvGraphicFramePr/>
            <p:nvPr/>
          </p:nvGraphicFramePr>
          <p:xfrm>
            <a:off x="1939680" y="111744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39680" y="111744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9" name="Object 6"/>
            <p:cNvGraphicFramePr/>
            <p:nvPr/>
          </p:nvGraphicFramePr>
          <p:xfrm>
            <a:off x="1936800" y="165096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36800" y="165096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Object 7"/>
            <p:cNvGraphicFramePr/>
            <p:nvPr/>
          </p:nvGraphicFramePr>
          <p:xfrm>
            <a:off x="1908000" y="265104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4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8000" y="265104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Object 8"/>
            <p:cNvGraphicFramePr/>
            <p:nvPr/>
          </p:nvGraphicFramePr>
          <p:xfrm>
            <a:off x="2057400" y="217152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44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7400" y="217152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Object 9"/>
            <p:cNvGraphicFramePr/>
            <p:nvPr/>
          </p:nvGraphicFramePr>
          <p:xfrm>
            <a:off x="2079360" y="315252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6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79360" y="315252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47" name="Text Box 10"/>
          <p:cNvSpPr/>
          <p:nvPr/>
        </p:nvSpPr>
        <p:spPr>
          <a:xfrm>
            <a:off x="5326200" y="153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5383440" y="2095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5231880" y="2590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13"/>
          <p:cNvGraphicFramePr/>
          <p:nvPr/>
        </p:nvGraphicFramePr>
        <p:xfrm>
          <a:off x="5327640" y="1050840"/>
          <a:ext cx="431640" cy="39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27640" y="1050840"/>
                    <a:ext cx="431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4"/>
          <p:cNvGraphicFramePr/>
          <p:nvPr/>
        </p:nvGraphicFramePr>
        <p:xfrm>
          <a:off x="5264280" y="3159000"/>
          <a:ext cx="2577960" cy="863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64280" y="3159000"/>
                    <a:ext cx="2577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15"/>
          <p:cNvGraphicFramePr/>
          <p:nvPr/>
        </p:nvGraphicFramePr>
        <p:xfrm>
          <a:off x="3711600" y="4206960"/>
          <a:ext cx="128268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11600" y="420696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6"/>
          <p:cNvGraphicFramePr/>
          <p:nvPr/>
        </p:nvGraphicFramePr>
        <p:xfrm>
          <a:off x="3838680" y="4756320"/>
          <a:ext cx="1866960" cy="622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38680" y="4756320"/>
                    <a:ext cx="18669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17"/>
          <p:cNvGraphicFramePr/>
          <p:nvPr/>
        </p:nvGraphicFramePr>
        <p:xfrm>
          <a:off x="3816360" y="5432400"/>
          <a:ext cx="1701720" cy="622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16360" y="5432400"/>
                    <a:ext cx="17017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18"/>
          <p:cNvGraphicFramePr/>
          <p:nvPr/>
        </p:nvGraphicFramePr>
        <p:xfrm>
          <a:off x="3825720" y="6156360"/>
          <a:ext cx="1244880" cy="39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25720" y="6156360"/>
                    <a:ext cx="12448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206280" y="152280"/>
          <a:ext cx="42544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52280"/>
                    <a:ext cx="4254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2317680" y="682560"/>
          <a:ext cx="39751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7680" y="682560"/>
                    <a:ext cx="3975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Group 4"/>
          <p:cNvGrpSpPr/>
          <p:nvPr/>
        </p:nvGrpSpPr>
        <p:grpSpPr>
          <a:xfrm>
            <a:off x="1908000" y="1432080"/>
            <a:ext cx="2994120" cy="2390760"/>
            <a:chOff x="1908000" y="1432080"/>
            <a:chExt cx="2994120" cy="2390760"/>
          </a:xfrm>
        </p:grpSpPr>
        <p:graphicFrame>
          <p:nvGraphicFramePr>
            <p:cNvPr id="467" name="Object 5"/>
            <p:cNvGraphicFramePr/>
            <p:nvPr/>
          </p:nvGraphicFramePr>
          <p:xfrm>
            <a:off x="1939680" y="1432080"/>
            <a:ext cx="20322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39680" y="143208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Object 6"/>
            <p:cNvGraphicFramePr/>
            <p:nvPr/>
          </p:nvGraphicFramePr>
          <p:xfrm>
            <a:off x="1936800" y="1965600"/>
            <a:ext cx="186660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6800" y="196560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Object 7"/>
            <p:cNvGraphicFramePr/>
            <p:nvPr/>
          </p:nvGraphicFramePr>
          <p:xfrm>
            <a:off x="1908000" y="2965680"/>
            <a:ext cx="278136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2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8000" y="296568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3" name="Object 8"/>
            <p:cNvGraphicFramePr/>
            <p:nvPr/>
          </p:nvGraphicFramePr>
          <p:xfrm>
            <a:off x="2057400" y="2486160"/>
            <a:ext cx="284472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74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48616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Object 9"/>
            <p:cNvGraphicFramePr/>
            <p:nvPr/>
          </p:nvGraphicFramePr>
          <p:xfrm>
            <a:off x="2079360" y="3467160"/>
            <a:ext cx="240048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6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079360" y="346716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7" name="Text Box 10"/>
          <p:cNvSpPr/>
          <p:nvPr/>
        </p:nvSpPr>
        <p:spPr>
          <a:xfrm>
            <a:off x="5345280" y="133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5383440" y="240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5231880" y="2905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13"/>
          <p:cNvGraphicFramePr/>
          <p:nvPr/>
        </p:nvGraphicFramePr>
        <p:xfrm>
          <a:off x="5229360" y="1889280"/>
          <a:ext cx="761760" cy="393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1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29360" y="1889280"/>
                    <a:ext cx="7617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4"/>
          <p:cNvGraphicFramePr/>
          <p:nvPr/>
        </p:nvGraphicFramePr>
        <p:xfrm>
          <a:off x="5286240" y="3346560"/>
          <a:ext cx="609840" cy="393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3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86240" y="3346560"/>
                    <a:ext cx="6098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15"/>
          <p:cNvGraphicFramePr/>
          <p:nvPr/>
        </p:nvGraphicFramePr>
        <p:xfrm>
          <a:off x="3730680" y="3854520"/>
          <a:ext cx="128268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5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0680" y="385452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16"/>
          <p:cNvGraphicFramePr/>
          <p:nvPr/>
        </p:nvGraphicFramePr>
        <p:xfrm>
          <a:off x="3336840" y="4336920"/>
          <a:ext cx="2374920" cy="622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7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36840" y="4336920"/>
                    <a:ext cx="2374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7"/>
          <p:cNvGraphicFramePr/>
          <p:nvPr/>
        </p:nvGraphicFramePr>
        <p:xfrm>
          <a:off x="3327480" y="5022720"/>
          <a:ext cx="2222280" cy="622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9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327480" y="5022720"/>
                    <a:ext cx="2222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8"/>
          <p:cNvGraphicFramePr/>
          <p:nvPr/>
        </p:nvGraphicFramePr>
        <p:xfrm>
          <a:off x="3321000" y="5689440"/>
          <a:ext cx="1435320" cy="393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321000" y="5689440"/>
                    <a:ext cx="14353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9"/>
          <p:cNvGraphicFramePr/>
          <p:nvPr/>
        </p:nvGraphicFramePr>
        <p:xfrm>
          <a:off x="3483000" y="6232680"/>
          <a:ext cx="1092240" cy="393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83000" y="6232680"/>
                    <a:ext cx="10922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719640" y="277920"/>
            <a:ext cx="70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 Insert one geometric mean between ¼ and 4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2672640" y="77328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 denotes trick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Object 4"/>
          <p:cNvGraphicFramePr/>
          <p:nvPr/>
        </p:nvGraphicFramePr>
        <p:xfrm>
          <a:off x="3838680" y="1400040"/>
          <a:ext cx="13334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8680" y="1400040"/>
                    <a:ext cx="1333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8" name="Group 5"/>
          <p:cNvGrpSpPr/>
          <p:nvPr/>
        </p:nvGrpSpPr>
        <p:grpSpPr>
          <a:xfrm>
            <a:off x="2270160" y="2222640"/>
            <a:ext cx="2994120" cy="2390760"/>
            <a:chOff x="2270160" y="2222640"/>
            <a:chExt cx="2994120" cy="2390760"/>
          </a:xfrm>
        </p:grpSpPr>
        <p:graphicFrame>
          <p:nvGraphicFramePr>
            <p:cNvPr id="499" name="Object 6"/>
            <p:cNvGraphicFramePr/>
            <p:nvPr/>
          </p:nvGraphicFramePr>
          <p:xfrm>
            <a:off x="2301840" y="222264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01840" y="222264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Object 7"/>
            <p:cNvGraphicFramePr/>
            <p:nvPr/>
          </p:nvGraphicFramePr>
          <p:xfrm>
            <a:off x="2298960" y="275616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0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8960" y="275616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3" name="Object 8"/>
            <p:cNvGraphicFramePr/>
            <p:nvPr/>
          </p:nvGraphicFramePr>
          <p:xfrm>
            <a:off x="2270160" y="375624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04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70160" y="375624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5" name="Object 9"/>
            <p:cNvGraphicFramePr/>
            <p:nvPr/>
          </p:nvGraphicFramePr>
          <p:xfrm>
            <a:off x="2419560" y="327672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6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19560" y="327672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7" name="Object 10"/>
            <p:cNvGraphicFramePr/>
            <p:nvPr/>
          </p:nvGraphicFramePr>
          <p:xfrm>
            <a:off x="2441520" y="425772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8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41520" y="425772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9" name="Text Box 11"/>
          <p:cNvSpPr/>
          <p:nvPr/>
        </p:nvSpPr>
        <p:spPr>
          <a:xfrm>
            <a:off x="5707080" y="2124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580248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89080" y="36957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Object 14"/>
          <p:cNvGraphicFramePr/>
          <p:nvPr/>
        </p:nvGraphicFramePr>
        <p:xfrm>
          <a:off x="5870520" y="2736720"/>
          <a:ext cx="20340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3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70520" y="2736720"/>
                    <a:ext cx="203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15"/>
          <p:cNvGraphicFramePr/>
          <p:nvPr/>
        </p:nvGraphicFramePr>
        <p:xfrm>
          <a:off x="5880240" y="4292640"/>
          <a:ext cx="203040" cy="216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15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80240" y="4292640"/>
                    <a:ext cx="2030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16"/>
          <p:cNvGraphicFramePr/>
          <p:nvPr/>
        </p:nvGraphicFramePr>
        <p:xfrm>
          <a:off x="3473280" y="4673520"/>
          <a:ext cx="1283040" cy="40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7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73280" y="4673520"/>
                    <a:ext cx="1283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17"/>
          <p:cNvGraphicFramePr/>
          <p:nvPr/>
        </p:nvGraphicFramePr>
        <p:xfrm>
          <a:off x="415800" y="5305320"/>
          <a:ext cx="116856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9" name="Object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5800" y="5305320"/>
                    <a:ext cx="1168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18"/>
          <p:cNvGraphicFramePr/>
          <p:nvPr/>
        </p:nvGraphicFramePr>
        <p:xfrm>
          <a:off x="1666800" y="5305320"/>
          <a:ext cx="1371600" cy="723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21" name="Object 1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66800" y="530532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19"/>
          <p:cNvGraphicFramePr/>
          <p:nvPr/>
        </p:nvGraphicFramePr>
        <p:xfrm>
          <a:off x="3162240" y="5448240"/>
          <a:ext cx="1257480" cy="34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23" name="Object 1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62240" y="5448240"/>
                    <a:ext cx="12574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20"/>
          <p:cNvGraphicFramePr/>
          <p:nvPr/>
        </p:nvGraphicFramePr>
        <p:xfrm>
          <a:off x="4524480" y="5492880"/>
          <a:ext cx="1181160" cy="291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5" name="Object 2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24480" y="5492880"/>
                    <a:ext cx="11811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6" name="Group 21"/>
          <p:cNvGrpSpPr/>
          <p:nvPr/>
        </p:nvGrpSpPr>
        <p:grpSpPr>
          <a:xfrm>
            <a:off x="5838840" y="5095440"/>
            <a:ext cx="933480" cy="952920"/>
            <a:chOff x="5838840" y="5095440"/>
            <a:chExt cx="933480" cy="952920"/>
          </a:xfrm>
        </p:grpSpPr>
        <p:sp>
          <p:nvSpPr>
            <p:cNvPr id="527" name="Line 22"/>
            <p:cNvSpPr/>
            <p:nvPr/>
          </p:nvSpPr>
          <p:spPr>
            <a:xfrm flipV="1">
              <a:off x="5838840" y="5095440"/>
              <a:ext cx="933480" cy="55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>
              <a:off x="5867280" y="5648400"/>
              <a:ext cx="85752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24"/>
          <p:cNvGrpSpPr/>
          <p:nvPr/>
        </p:nvGrpSpPr>
        <p:grpSpPr>
          <a:xfrm>
            <a:off x="6835680" y="4724280"/>
            <a:ext cx="1054080" cy="1685880"/>
            <a:chOff x="6835680" y="4724280"/>
            <a:chExt cx="1054080" cy="1685880"/>
          </a:xfrm>
        </p:grpSpPr>
        <p:graphicFrame>
          <p:nvGraphicFramePr>
            <p:cNvPr id="530" name="Object 25"/>
            <p:cNvGraphicFramePr/>
            <p:nvPr/>
          </p:nvGraphicFramePr>
          <p:xfrm>
            <a:off x="6861240" y="4724280"/>
            <a:ext cx="812880" cy="723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531" name="Object 2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61240" y="4724280"/>
                      <a:ext cx="81288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2" name="Object 26"/>
            <p:cNvGraphicFramePr/>
            <p:nvPr/>
          </p:nvGraphicFramePr>
          <p:xfrm>
            <a:off x="6835680" y="5686560"/>
            <a:ext cx="1054080" cy="7236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533" name="Object 2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835680" y="5686560"/>
                      <a:ext cx="10540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8120" y="162000"/>
          <a:ext cx="31878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62000"/>
                    <a:ext cx="3187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6" name="Group 3"/>
          <p:cNvGrpSpPr/>
          <p:nvPr/>
        </p:nvGrpSpPr>
        <p:grpSpPr>
          <a:xfrm>
            <a:off x="2193840" y="1127160"/>
            <a:ext cx="2994120" cy="2390760"/>
            <a:chOff x="2193840" y="1127160"/>
            <a:chExt cx="2994120" cy="2390760"/>
          </a:xfrm>
        </p:grpSpPr>
        <p:graphicFrame>
          <p:nvGraphicFramePr>
            <p:cNvPr id="537" name="Object 4"/>
            <p:cNvGraphicFramePr/>
            <p:nvPr/>
          </p:nvGraphicFramePr>
          <p:xfrm>
            <a:off x="2225520" y="1127160"/>
            <a:ext cx="203220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25520" y="1127160"/>
                      <a:ext cx="20322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9" name="Object 5"/>
            <p:cNvGraphicFramePr/>
            <p:nvPr/>
          </p:nvGraphicFramePr>
          <p:xfrm>
            <a:off x="2222640" y="1660680"/>
            <a:ext cx="186660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0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22640" y="1660680"/>
                      <a:ext cx="186660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1" name="Object 6"/>
            <p:cNvGraphicFramePr/>
            <p:nvPr/>
          </p:nvGraphicFramePr>
          <p:xfrm>
            <a:off x="2193840" y="266076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42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93840" y="266076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3" name="Object 7"/>
            <p:cNvGraphicFramePr/>
            <p:nvPr/>
          </p:nvGraphicFramePr>
          <p:xfrm>
            <a:off x="2343240" y="2181240"/>
            <a:ext cx="284472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43240" y="2181240"/>
                      <a:ext cx="28447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5" name="Object 8"/>
            <p:cNvGraphicFramePr/>
            <p:nvPr/>
          </p:nvGraphicFramePr>
          <p:xfrm>
            <a:off x="2365200" y="3162240"/>
            <a:ext cx="240048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6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365200" y="3162240"/>
                      <a:ext cx="240048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7" name="Text Box 9"/>
          <p:cNvSpPr/>
          <p:nvPr/>
        </p:nvSpPr>
        <p:spPr>
          <a:xfrm>
            <a:off x="5631120" y="10288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5726520" y="21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5735880" y="26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Object 12"/>
          <p:cNvGraphicFramePr/>
          <p:nvPr/>
        </p:nvGraphicFramePr>
        <p:xfrm>
          <a:off x="5715000" y="1641600"/>
          <a:ext cx="45720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1641600"/>
                    <a:ext cx="4572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3"/>
          <p:cNvGraphicFramePr/>
          <p:nvPr/>
        </p:nvGraphicFramePr>
        <p:xfrm>
          <a:off x="6210360" y="2587680"/>
          <a:ext cx="1866960" cy="1473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3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10360" y="2587680"/>
                    <a:ext cx="186696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4"/>
          <p:cNvGraphicFramePr/>
          <p:nvPr/>
        </p:nvGraphicFramePr>
        <p:xfrm>
          <a:off x="314280" y="3664080"/>
          <a:ext cx="2171880" cy="90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5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4280" y="3664080"/>
                    <a:ext cx="21718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15"/>
          <p:cNvGraphicFramePr/>
          <p:nvPr/>
        </p:nvGraphicFramePr>
        <p:xfrm>
          <a:off x="444600" y="4778280"/>
          <a:ext cx="2463840" cy="1778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7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4600" y="4778280"/>
                    <a:ext cx="246384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16"/>
          <p:cNvGraphicFramePr/>
          <p:nvPr/>
        </p:nvGraphicFramePr>
        <p:xfrm>
          <a:off x="3009960" y="4797360"/>
          <a:ext cx="2209680" cy="1778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59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09960" y="4797360"/>
                    <a:ext cx="220968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7"/>
          <p:cNvGraphicFramePr/>
          <p:nvPr/>
        </p:nvGraphicFramePr>
        <p:xfrm>
          <a:off x="5302080" y="5467320"/>
          <a:ext cx="673200" cy="723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61" name="Object 1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02080" y="5467320"/>
                    <a:ext cx="673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2490480" y="3048120"/>
            <a:ext cx="40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2.3 – Infinit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362520" y="42084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4, 7, 10, 13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95880" y="42876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977880" y="420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392760" y="10396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 7, 11, …,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3453840" y="103032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Object 7"/>
          <p:cNvGraphicFramePr/>
          <p:nvPr/>
        </p:nvGraphicFramePr>
        <p:xfrm>
          <a:off x="6699240" y="923760"/>
          <a:ext cx="2031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240" y="923760"/>
                    <a:ext cx="203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Text Box 8"/>
          <p:cNvSpPr/>
          <p:nvPr/>
        </p:nvSpPr>
        <p:spPr>
          <a:xfrm>
            <a:off x="401760" y="19922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4, …,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3472560" y="19828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Object 10"/>
          <p:cNvGraphicFramePr/>
          <p:nvPr/>
        </p:nvGraphicFramePr>
        <p:xfrm>
          <a:off x="6667560" y="1739880"/>
          <a:ext cx="1905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560" y="1739880"/>
                    <a:ext cx="1905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 Box 11"/>
          <p:cNvSpPr/>
          <p:nvPr/>
        </p:nvSpPr>
        <p:spPr>
          <a:xfrm>
            <a:off x="449280" y="284940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3377880" y="2849400"/>
            <a:ext cx="257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te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7035120" y="28591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Object 14"/>
          <p:cNvGraphicFramePr/>
          <p:nvPr/>
        </p:nvGraphicFramePr>
        <p:xfrm>
          <a:off x="431640" y="4572000"/>
          <a:ext cx="176544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" y="4572000"/>
                    <a:ext cx="1765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Text Box 15"/>
          <p:cNvSpPr/>
          <p:nvPr/>
        </p:nvSpPr>
        <p:spPr>
          <a:xfrm>
            <a:off x="3368520" y="457344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finite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1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Object 16"/>
          <p:cNvGraphicFramePr/>
          <p:nvPr/>
        </p:nvGraphicFramePr>
        <p:xfrm>
          <a:off x="7048440" y="4632480"/>
          <a:ext cx="110484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1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48440" y="4632480"/>
                    <a:ext cx="110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Object 3"/>
          <p:cNvGraphicFramePr/>
          <p:nvPr/>
        </p:nvGraphicFramePr>
        <p:xfrm>
          <a:off x="3968640" y="314280"/>
          <a:ext cx="21970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8640" y="314280"/>
                    <a:ext cx="21970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4"/>
          <p:cNvGraphicFramePr/>
          <p:nvPr/>
        </p:nvGraphicFramePr>
        <p:xfrm>
          <a:off x="2286000" y="1235160"/>
          <a:ext cx="186696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35160"/>
                    <a:ext cx="186696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5"/>
          <p:cNvGraphicFramePr/>
          <p:nvPr/>
        </p:nvGraphicFramePr>
        <p:xfrm>
          <a:off x="4330800" y="1797120"/>
          <a:ext cx="25398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0800" y="1797120"/>
                    <a:ext cx="2539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6"/>
          <p:cNvGraphicFramePr/>
          <p:nvPr/>
        </p:nvGraphicFramePr>
        <p:xfrm>
          <a:off x="3121200" y="3044880"/>
          <a:ext cx="2577960" cy="113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1200" y="3044880"/>
                    <a:ext cx="257796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Object 3"/>
          <p:cNvGraphicFramePr/>
          <p:nvPr/>
        </p:nvGraphicFramePr>
        <p:xfrm>
          <a:off x="4010040" y="422280"/>
          <a:ext cx="25909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0040" y="422280"/>
                    <a:ext cx="25909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4"/>
          <p:cNvGraphicFramePr/>
          <p:nvPr/>
        </p:nvGraphicFramePr>
        <p:xfrm>
          <a:off x="1117440" y="1530360"/>
          <a:ext cx="30607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7440" y="1530360"/>
                    <a:ext cx="3060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5"/>
          <p:cNvGraphicFramePr/>
          <p:nvPr/>
        </p:nvGraphicFramePr>
        <p:xfrm>
          <a:off x="4406760" y="1797120"/>
          <a:ext cx="238788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06760" y="1797120"/>
                    <a:ext cx="23878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6"/>
          <p:cNvGraphicFramePr/>
          <p:nvPr/>
        </p:nvGraphicFramePr>
        <p:xfrm>
          <a:off x="3807000" y="3432240"/>
          <a:ext cx="120636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7000" y="3432240"/>
                    <a:ext cx="1206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1" name="Object 3"/>
          <p:cNvGraphicFramePr/>
          <p:nvPr/>
        </p:nvGraphicFramePr>
        <p:xfrm>
          <a:off x="3876840" y="314280"/>
          <a:ext cx="243828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6840" y="314280"/>
                    <a:ext cx="2438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4"/>
          <p:cNvGraphicFramePr/>
          <p:nvPr/>
        </p:nvGraphicFramePr>
        <p:xfrm>
          <a:off x="2286000" y="1235160"/>
          <a:ext cx="186696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35160"/>
                    <a:ext cx="186696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5"/>
          <p:cNvGraphicFramePr/>
          <p:nvPr/>
        </p:nvGraphicFramePr>
        <p:xfrm>
          <a:off x="4330800" y="1797120"/>
          <a:ext cx="25398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0800" y="1797120"/>
                    <a:ext cx="2539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3089160" y="2873520"/>
          <a:ext cx="2641680" cy="14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89160" y="2873520"/>
                    <a:ext cx="2641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32280" y="39204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–9, -2, 5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5920" y="94464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054080" y="1539720"/>
          <a:ext cx="2616120" cy="2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539720"/>
                    <a:ext cx="26161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878760" y="1963800"/>
            <a:ext cx="62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7 is referred to as the common difference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860760" y="2440080"/>
            <a:ext cx="77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Difference (d) – what we ADD to get nex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78400" y="3230640"/>
            <a:ext cx="47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four terms……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2, 19, 26,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70720" y="2970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Object 3"/>
          <p:cNvGraphicFramePr/>
          <p:nvPr/>
        </p:nvGraphicFramePr>
        <p:xfrm>
          <a:off x="3895560" y="142920"/>
          <a:ext cx="1791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5560" y="142920"/>
                    <a:ext cx="1791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4"/>
          <p:cNvGraphicFramePr/>
          <p:nvPr/>
        </p:nvGraphicFramePr>
        <p:xfrm>
          <a:off x="2343240" y="1092240"/>
          <a:ext cx="182880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1092240"/>
                    <a:ext cx="18288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5"/>
          <p:cNvGraphicFramePr/>
          <p:nvPr/>
        </p:nvGraphicFramePr>
        <p:xfrm>
          <a:off x="4397400" y="1663560"/>
          <a:ext cx="2387520" cy="2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7400" y="1663560"/>
                    <a:ext cx="23875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6"/>
          <p:cNvGraphicFramePr/>
          <p:nvPr/>
        </p:nvGraphicFramePr>
        <p:xfrm>
          <a:off x="3797280" y="3298680"/>
          <a:ext cx="120636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97280" y="3298680"/>
                    <a:ext cx="1206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280080" y="43020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um, if possib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Object 3"/>
          <p:cNvGraphicFramePr/>
          <p:nvPr/>
        </p:nvGraphicFramePr>
        <p:xfrm>
          <a:off x="3828960" y="324000"/>
          <a:ext cx="1828800" cy="72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8960" y="324000"/>
                    <a:ext cx="18288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4"/>
          <p:cNvGraphicFramePr/>
          <p:nvPr/>
        </p:nvGraphicFramePr>
        <p:xfrm>
          <a:off x="2241720" y="1222200"/>
          <a:ext cx="195552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1720" y="1222200"/>
                    <a:ext cx="1955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5"/>
          <p:cNvGraphicFramePr/>
          <p:nvPr/>
        </p:nvGraphicFramePr>
        <p:xfrm>
          <a:off x="4330800" y="1797120"/>
          <a:ext cx="253980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0800" y="1797120"/>
                    <a:ext cx="25398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3032280" y="3044880"/>
          <a:ext cx="2755800" cy="113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2280" y="3044880"/>
                    <a:ext cx="27558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666800" y="20016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uncing Ball Problem – Versi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306720" y="973080"/>
            <a:ext cx="83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l is dropped from a height of 50 feet.  It rebounds 4/5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337680" y="1440000"/>
            <a:ext cx="81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, and continues this pattern until it stops.  How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340200" y="19162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ball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6"/>
          <p:cNvGrpSpPr/>
          <p:nvPr/>
        </p:nvGrpSpPr>
        <p:grpSpPr>
          <a:xfrm>
            <a:off x="523800" y="2230560"/>
            <a:ext cx="5668200" cy="3055680"/>
            <a:chOff x="523800" y="2230560"/>
            <a:chExt cx="5668200" cy="3055680"/>
          </a:xfrm>
        </p:grpSpPr>
        <p:sp>
          <p:nvSpPr>
            <p:cNvPr id="632" name="Line 7"/>
            <p:cNvSpPr/>
            <p:nvPr/>
          </p:nvSpPr>
          <p:spPr>
            <a:xfrm>
              <a:off x="523800" y="2571840"/>
              <a:ext cx="924120" cy="27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8"/>
            <p:cNvSpPr/>
            <p:nvPr/>
          </p:nvSpPr>
          <p:spPr>
            <a:xfrm>
              <a:off x="5672880" y="2230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9"/>
          <p:cNvGrpSpPr/>
          <p:nvPr/>
        </p:nvGrpSpPr>
        <p:grpSpPr>
          <a:xfrm>
            <a:off x="1743120" y="2849400"/>
            <a:ext cx="4429800" cy="2446560"/>
            <a:chOff x="1743120" y="2849400"/>
            <a:chExt cx="4429800" cy="2446560"/>
          </a:xfrm>
        </p:grpSpPr>
        <p:sp>
          <p:nvSpPr>
            <p:cNvPr id="635" name="Line 10"/>
            <p:cNvSpPr/>
            <p:nvPr/>
          </p:nvSpPr>
          <p:spPr>
            <a:xfrm>
              <a:off x="1743120" y="3171960"/>
              <a:ext cx="733320" cy="21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1"/>
            <p:cNvSpPr/>
            <p:nvPr/>
          </p:nvSpPr>
          <p:spPr>
            <a:xfrm>
              <a:off x="5653800" y="2849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12"/>
          <p:cNvGrpSpPr/>
          <p:nvPr/>
        </p:nvGrpSpPr>
        <p:grpSpPr>
          <a:xfrm>
            <a:off x="2828880" y="3478320"/>
            <a:ext cx="3363120" cy="1798560"/>
            <a:chOff x="2828880" y="3478320"/>
            <a:chExt cx="3363120" cy="1798560"/>
          </a:xfrm>
        </p:grpSpPr>
        <p:sp>
          <p:nvSpPr>
            <p:cNvPr id="638" name="Line 13"/>
            <p:cNvSpPr/>
            <p:nvPr/>
          </p:nvSpPr>
          <p:spPr>
            <a:xfrm>
              <a:off x="2828880" y="3705120"/>
              <a:ext cx="60948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4"/>
            <p:cNvSpPr/>
            <p:nvPr/>
          </p:nvSpPr>
          <p:spPr>
            <a:xfrm>
              <a:off x="567288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15"/>
          <p:cNvGrpSpPr/>
          <p:nvPr/>
        </p:nvGrpSpPr>
        <p:grpSpPr>
          <a:xfrm>
            <a:off x="4000680" y="4057560"/>
            <a:ext cx="2445480" cy="1209600"/>
            <a:chOff x="4000680" y="4057560"/>
            <a:chExt cx="2445480" cy="1209600"/>
          </a:xfrm>
        </p:grpSpPr>
        <p:sp>
          <p:nvSpPr>
            <p:cNvPr id="641" name="Line 16"/>
            <p:cNvSpPr/>
            <p:nvPr/>
          </p:nvSpPr>
          <p:spPr>
            <a:xfrm>
              <a:off x="4000680" y="4057560"/>
              <a:ext cx="466560" cy="12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5672520" y="41259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2/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8"/>
          <p:cNvGrpSpPr/>
          <p:nvPr/>
        </p:nvGrpSpPr>
        <p:grpSpPr>
          <a:xfrm>
            <a:off x="1447920" y="2849400"/>
            <a:ext cx="5906160" cy="2436840"/>
            <a:chOff x="1447920" y="2849400"/>
            <a:chExt cx="5906160" cy="2436840"/>
          </a:xfrm>
        </p:grpSpPr>
        <p:sp>
          <p:nvSpPr>
            <p:cNvPr id="644" name="Line 19"/>
            <p:cNvSpPr/>
            <p:nvPr/>
          </p:nvSpPr>
          <p:spPr>
            <a:xfrm flipV="1">
              <a:off x="1447920" y="3209760"/>
              <a:ext cx="285480" cy="207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20"/>
            <p:cNvSpPr/>
            <p:nvPr/>
          </p:nvSpPr>
          <p:spPr>
            <a:xfrm>
              <a:off x="6834960" y="2849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1"/>
          <p:cNvGrpSpPr/>
          <p:nvPr/>
        </p:nvGrpSpPr>
        <p:grpSpPr>
          <a:xfrm>
            <a:off x="2457360" y="3478320"/>
            <a:ext cx="4915800" cy="1817280"/>
            <a:chOff x="2457360" y="3478320"/>
            <a:chExt cx="4915800" cy="1817280"/>
          </a:xfrm>
        </p:grpSpPr>
        <p:sp>
          <p:nvSpPr>
            <p:cNvPr id="647" name="Line 22"/>
            <p:cNvSpPr/>
            <p:nvPr/>
          </p:nvSpPr>
          <p:spPr>
            <a:xfrm flipV="1">
              <a:off x="2457360" y="3733560"/>
              <a:ext cx="352440" cy="156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23"/>
            <p:cNvSpPr/>
            <p:nvPr/>
          </p:nvSpPr>
          <p:spPr>
            <a:xfrm>
              <a:off x="685404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4"/>
          <p:cNvGrpSpPr/>
          <p:nvPr/>
        </p:nvGrpSpPr>
        <p:grpSpPr>
          <a:xfrm>
            <a:off x="3419640" y="4076640"/>
            <a:ext cx="4207680" cy="1209600"/>
            <a:chOff x="3419640" y="4076640"/>
            <a:chExt cx="4207680" cy="1209600"/>
          </a:xfrm>
        </p:grpSpPr>
        <p:sp>
          <p:nvSpPr>
            <p:cNvPr id="650" name="Line 25"/>
            <p:cNvSpPr/>
            <p:nvPr/>
          </p:nvSpPr>
          <p:spPr>
            <a:xfrm flipV="1">
              <a:off x="3419640" y="4076640"/>
              <a:ext cx="571320" cy="12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6"/>
            <p:cNvSpPr/>
            <p:nvPr/>
          </p:nvSpPr>
          <p:spPr>
            <a:xfrm>
              <a:off x="6853680" y="41259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2/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52" name="Object 27"/>
          <p:cNvGraphicFramePr/>
          <p:nvPr/>
        </p:nvGraphicFramePr>
        <p:xfrm>
          <a:off x="5289480" y="4927680"/>
          <a:ext cx="302256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9480" y="4927680"/>
                    <a:ext cx="30225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1666800" y="20016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uncing Ball Problem – Vers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07080" y="97308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l is thrown 100 feet into the air.  It rebounds 3/4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337680" y="1440000"/>
            <a:ext cx="81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eight, and continues this pattern until it stops.  How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340200" y="19162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ball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6"/>
          <p:cNvGrpSpPr/>
          <p:nvPr/>
        </p:nvGrpSpPr>
        <p:grpSpPr>
          <a:xfrm>
            <a:off x="1743120" y="2849400"/>
            <a:ext cx="4599360" cy="2446560"/>
            <a:chOff x="1743120" y="2849400"/>
            <a:chExt cx="4599360" cy="2446560"/>
          </a:xfrm>
        </p:grpSpPr>
        <p:sp>
          <p:nvSpPr>
            <p:cNvPr id="659" name="Line 7"/>
            <p:cNvSpPr/>
            <p:nvPr/>
          </p:nvSpPr>
          <p:spPr>
            <a:xfrm>
              <a:off x="1743120" y="3171960"/>
              <a:ext cx="733320" cy="21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8"/>
            <p:cNvSpPr/>
            <p:nvPr/>
          </p:nvSpPr>
          <p:spPr>
            <a:xfrm>
              <a:off x="5654160" y="2849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Group 9"/>
          <p:cNvGrpSpPr/>
          <p:nvPr/>
        </p:nvGrpSpPr>
        <p:grpSpPr>
          <a:xfrm>
            <a:off x="2828880" y="3478320"/>
            <a:ext cx="3363120" cy="1798560"/>
            <a:chOff x="2828880" y="3478320"/>
            <a:chExt cx="3363120" cy="1798560"/>
          </a:xfrm>
        </p:grpSpPr>
        <p:sp>
          <p:nvSpPr>
            <p:cNvPr id="662" name="Line 10"/>
            <p:cNvSpPr/>
            <p:nvPr/>
          </p:nvSpPr>
          <p:spPr>
            <a:xfrm>
              <a:off x="2828880" y="3705120"/>
              <a:ext cx="609480" cy="157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1"/>
            <p:cNvSpPr/>
            <p:nvPr/>
          </p:nvSpPr>
          <p:spPr>
            <a:xfrm>
              <a:off x="567288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12"/>
          <p:cNvGrpSpPr/>
          <p:nvPr/>
        </p:nvGrpSpPr>
        <p:grpSpPr>
          <a:xfrm>
            <a:off x="4000680" y="4057560"/>
            <a:ext cx="2615040" cy="1209600"/>
            <a:chOff x="4000680" y="4057560"/>
            <a:chExt cx="2615040" cy="1209600"/>
          </a:xfrm>
        </p:grpSpPr>
        <p:sp>
          <p:nvSpPr>
            <p:cNvPr id="665" name="Line 13"/>
            <p:cNvSpPr/>
            <p:nvPr/>
          </p:nvSpPr>
          <p:spPr>
            <a:xfrm>
              <a:off x="4000680" y="4057560"/>
              <a:ext cx="466560" cy="12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14"/>
            <p:cNvSpPr/>
            <p:nvPr/>
          </p:nvSpPr>
          <p:spPr>
            <a:xfrm>
              <a:off x="5672880" y="41259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25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5"/>
          <p:cNvGrpSpPr/>
          <p:nvPr/>
        </p:nvGrpSpPr>
        <p:grpSpPr>
          <a:xfrm>
            <a:off x="1447920" y="2849400"/>
            <a:ext cx="6075360" cy="2436840"/>
            <a:chOff x="1447920" y="2849400"/>
            <a:chExt cx="6075360" cy="2436840"/>
          </a:xfrm>
        </p:grpSpPr>
        <p:sp>
          <p:nvSpPr>
            <p:cNvPr id="668" name="Line 16"/>
            <p:cNvSpPr/>
            <p:nvPr/>
          </p:nvSpPr>
          <p:spPr>
            <a:xfrm flipV="1">
              <a:off x="1447920" y="3209760"/>
              <a:ext cx="285480" cy="207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7"/>
            <p:cNvSpPr/>
            <p:nvPr/>
          </p:nvSpPr>
          <p:spPr>
            <a:xfrm>
              <a:off x="6834960" y="28494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18"/>
          <p:cNvGrpSpPr/>
          <p:nvPr/>
        </p:nvGrpSpPr>
        <p:grpSpPr>
          <a:xfrm>
            <a:off x="2457360" y="3478320"/>
            <a:ext cx="4915800" cy="1817280"/>
            <a:chOff x="2457360" y="3478320"/>
            <a:chExt cx="4915800" cy="1817280"/>
          </a:xfrm>
        </p:grpSpPr>
        <p:sp>
          <p:nvSpPr>
            <p:cNvPr id="671" name="Line 19"/>
            <p:cNvSpPr/>
            <p:nvPr/>
          </p:nvSpPr>
          <p:spPr>
            <a:xfrm flipV="1">
              <a:off x="2457360" y="3733560"/>
              <a:ext cx="352440" cy="156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0"/>
            <p:cNvSpPr/>
            <p:nvPr/>
          </p:nvSpPr>
          <p:spPr>
            <a:xfrm>
              <a:off x="6854040" y="3478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Group 21"/>
          <p:cNvGrpSpPr/>
          <p:nvPr/>
        </p:nvGrpSpPr>
        <p:grpSpPr>
          <a:xfrm>
            <a:off x="3419640" y="4076640"/>
            <a:ext cx="4377240" cy="1209600"/>
            <a:chOff x="3419640" y="4076640"/>
            <a:chExt cx="4377240" cy="1209600"/>
          </a:xfrm>
        </p:grpSpPr>
        <p:sp>
          <p:nvSpPr>
            <p:cNvPr id="674" name="Line 22"/>
            <p:cNvSpPr/>
            <p:nvPr/>
          </p:nvSpPr>
          <p:spPr>
            <a:xfrm flipV="1">
              <a:off x="3419640" y="4076640"/>
              <a:ext cx="571320" cy="12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23"/>
            <p:cNvSpPr/>
            <p:nvPr/>
          </p:nvSpPr>
          <p:spPr>
            <a:xfrm>
              <a:off x="6854040" y="412596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25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6" name="Object 24"/>
          <p:cNvGraphicFramePr/>
          <p:nvPr/>
        </p:nvGraphicFramePr>
        <p:xfrm>
          <a:off x="5295960" y="4927680"/>
          <a:ext cx="300996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4927680"/>
                    <a:ext cx="300996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280320" y="29718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Object 2"/>
          <p:cNvGraphicFramePr/>
          <p:nvPr/>
        </p:nvGraphicFramePr>
        <p:xfrm>
          <a:off x="3657600" y="2514600"/>
          <a:ext cx="133344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514600"/>
                    <a:ext cx="133344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1" name="Group 3"/>
          <p:cNvGrpSpPr/>
          <p:nvPr/>
        </p:nvGrpSpPr>
        <p:grpSpPr>
          <a:xfrm>
            <a:off x="3505320" y="914400"/>
            <a:ext cx="2590560" cy="1219320"/>
            <a:chOff x="3505320" y="914400"/>
            <a:chExt cx="2590560" cy="1219320"/>
          </a:xfrm>
        </p:grpSpPr>
        <p:sp>
          <p:nvSpPr>
            <p:cNvPr id="682" name="AutoShape 4"/>
            <p:cNvSpPr/>
            <p:nvPr/>
          </p:nvSpPr>
          <p:spPr>
            <a:xfrm>
              <a:off x="3505320" y="914400"/>
              <a:ext cx="2590560" cy="1219320"/>
            </a:xfrm>
            <a:prstGeom prst="wedgeEllipseCallout">
              <a:avLst>
                <a:gd name="adj1" fmla="val -23162"/>
                <a:gd name="adj2" fmla="val 842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5"/>
            <p:cNvSpPr/>
            <p:nvPr/>
          </p:nvSpPr>
          <p:spPr>
            <a:xfrm>
              <a:off x="3585600" y="1143000"/>
              <a:ext cx="241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UPPER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6"/>
          <p:cNvGrpSpPr/>
          <p:nvPr/>
        </p:nvGrpSpPr>
        <p:grpSpPr>
          <a:xfrm>
            <a:off x="4114800" y="4572000"/>
            <a:ext cx="2590920" cy="1219320"/>
            <a:chOff x="4114800" y="4572000"/>
            <a:chExt cx="2590920" cy="1219320"/>
          </a:xfrm>
        </p:grpSpPr>
        <p:sp>
          <p:nvSpPr>
            <p:cNvPr id="685" name="AutoShape 7"/>
            <p:cNvSpPr/>
            <p:nvPr/>
          </p:nvSpPr>
          <p:spPr>
            <a:xfrm>
              <a:off x="4114800" y="4572000"/>
              <a:ext cx="2590920" cy="1219320"/>
            </a:xfrm>
            <a:prstGeom prst="wedgeEllipseCallout">
              <a:avLst>
                <a:gd name="adj1" fmla="val -48898"/>
                <a:gd name="adj2" fmla="val -85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Text Box 8"/>
            <p:cNvSpPr/>
            <p:nvPr/>
          </p:nvSpPr>
          <p:spPr>
            <a:xfrm>
              <a:off x="4161960" y="4800600"/>
              <a:ext cx="248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LOWER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NUMB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9"/>
          <p:cNvGrpSpPr/>
          <p:nvPr/>
        </p:nvGrpSpPr>
        <p:grpSpPr>
          <a:xfrm>
            <a:off x="457200" y="2666880"/>
            <a:ext cx="3200400" cy="1447920"/>
            <a:chOff x="457200" y="2666880"/>
            <a:chExt cx="3200400" cy="1447920"/>
          </a:xfrm>
        </p:grpSpPr>
        <p:sp>
          <p:nvSpPr>
            <p:cNvPr id="688" name="AutoShape 10"/>
            <p:cNvSpPr/>
            <p:nvPr/>
          </p:nvSpPr>
          <p:spPr>
            <a:xfrm>
              <a:off x="457200" y="2666880"/>
              <a:ext cx="3200400" cy="1447920"/>
            </a:xfrm>
            <a:prstGeom prst="wedgeEllipseCallout">
              <a:avLst>
                <a:gd name="adj1" fmla="val 54166"/>
                <a:gd name="adj2" fmla="val -4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692640" y="2895480"/>
              <a:ext cx="272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SIG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SUM OF TERM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12"/>
          <p:cNvGrpSpPr/>
          <p:nvPr/>
        </p:nvGrpSpPr>
        <p:grpSpPr>
          <a:xfrm>
            <a:off x="5257800" y="3048120"/>
            <a:ext cx="2590920" cy="1218960"/>
            <a:chOff x="5257800" y="3048120"/>
            <a:chExt cx="2590920" cy="1218960"/>
          </a:xfrm>
        </p:grpSpPr>
        <p:sp>
          <p:nvSpPr>
            <p:cNvPr id="691" name="AutoShape 13"/>
            <p:cNvSpPr/>
            <p:nvPr/>
          </p:nvSpPr>
          <p:spPr>
            <a:xfrm>
              <a:off x="5257800" y="3048120"/>
              <a:ext cx="2590920" cy="1218960"/>
            </a:xfrm>
            <a:prstGeom prst="wedgeEllipseCallout">
              <a:avLst>
                <a:gd name="adj1" fmla="val -65439"/>
                <a:gd name="adj2" fmla="val -3216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4"/>
            <p:cNvSpPr/>
            <p:nvPr/>
          </p:nvSpPr>
          <p:spPr>
            <a:xfrm>
              <a:off x="5500800" y="3276720"/>
              <a:ext cx="209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TH TE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(SEQUENC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Object 2"/>
          <p:cNvGraphicFramePr/>
          <p:nvPr/>
        </p:nvGraphicFramePr>
        <p:xfrm>
          <a:off x="228600" y="228600"/>
          <a:ext cx="11685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1685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3"/>
          <p:cNvGraphicFramePr/>
          <p:nvPr/>
        </p:nvGraphicFramePr>
        <p:xfrm>
          <a:off x="1447920" y="406440"/>
          <a:ext cx="10792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06440"/>
                    <a:ext cx="1079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4"/>
          <p:cNvGraphicFramePr/>
          <p:nvPr/>
        </p:nvGraphicFramePr>
        <p:xfrm>
          <a:off x="2577960" y="403200"/>
          <a:ext cx="11304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7960" y="403200"/>
                    <a:ext cx="1130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5"/>
          <p:cNvGraphicFramePr/>
          <p:nvPr/>
        </p:nvGraphicFramePr>
        <p:xfrm>
          <a:off x="3768840" y="403200"/>
          <a:ext cx="11300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68840" y="403200"/>
                    <a:ext cx="1130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6"/>
          <p:cNvGraphicFramePr/>
          <p:nvPr/>
        </p:nvGraphicFramePr>
        <p:xfrm>
          <a:off x="4959360" y="412920"/>
          <a:ext cx="11304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9360" y="412920"/>
                    <a:ext cx="11304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3" name="Group 7"/>
          <p:cNvGrpSpPr/>
          <p:nvPr/>
        </p:nvGrpSpPr>
        <p:grpSpPr>
          <a:xfrm>
            <a:off x="6178680" y="409680"/>
            <a:ext cx="631800" cy="399960"/>
            <a:chOff x="6178680" y="409680"/>
            <a:chExt cx="631800" cy="399960"/>
          </a:xfrm>
        </p:grpSpPr>
        <p:graphicFrame>
          <p:nvGraphicFramePr>
            <p:cNvPr id="704" name="Object 8"/>
            <p:cNvGraphicFramePr/>
            <p:nvPr/>
          </p:nvGraphicFramePr>
          <p:xfrm>
            <a:off x="6178680" y="453960"/>
            <a:ext cx="596880" cy="292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05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8680" y="453960"/>
                      <a:ext cx="59688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6" name="Rectangle 9"/>
            <p:cNvSpPr/>
            <p:nvPr/>
          </p:nvSpPr>
          <p:spPr>
            <a:xfrm>
              <a:off x="6381720" y="409680"/>
              <a:ext cx="428760" cy="39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7" name="Object 10"/>
          <p:cNvGraphicFramePr/>
          <p:nvPr/>
        </p:nvGraphicFramePr>
        <p:xfrm>
          <a:off x="222120" y="2308320"/>
          <a:ext cx="965160" cy="81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2120" y="2308320"/>
                    <a:ext cx="965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1"/>
          <p:cNvGraphicFramePr/>
          <p:nvPr/>
        </p:nvGraphicFramePr>
        <p:xfrm>
          <a:off x="1292400" y="2473200"/>
          <a:ext cx="1130040" cy="4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2400" y="2473200"/>
                    <a:ext cx="1130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2"/>
          <p:cNvGraphicFramePr/>
          <p:nvPr/>
        </p:nvGraphicFramePr>
        <p:xfrm>
          <a:off x="2476440" y="2473200"/>
          <a:ext cx="1104840" cy="48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76440" y="2473200"/>
                    <a:ext cx="11048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13"/>
          <p:cNvGraphicFramePr/>
          <p:nvPr/>
        </p:nvGraphicFramePr>
        <p:xfrm>
          <a:off x="3632040" y="2492280"/>
          <a:ext cx="1117800" cy="48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1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2040" y="2492280"/>
                    <a:ext cx="11178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14"/>
          <p:cNvGraphicFramePr/>
          <p:nvPr/>
        </p:nvGraphicFramePr>
        <p:xfrm>
          <a:off x="4803840" y="2482920"/>
          <a:ext cx="1117440" cy="48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6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03840" y="2482920"/>
                    <a:ext cx="1117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7" name="Group 15"/>
          <p:cNvGrpSpPr/>
          <p:nvPr/>
        </p:nvGrpSpPr>
        <p:grpSpPr>
          <a:xfrm>
            <a:off x="5956200" y="2457360"/>
            <a:ext cx="758880" cy="447840"/>
            <a:chOff x="5956200" y="2457360"/>
            <a:chExt cx="758880" cy="447840"/>
          </a:xfrm>
        </p:grpSpPr>
        <p:graphicFrame>
          <p:nvGraphicFramePr>
            <p:cNvPr id="718" name="Object 16"/>
            <p:cNvGraphicFramePr/>
            <p:nvPr/>
          </p:nvGraphicFramePr>
          <p:xfrm>
            <a:off x="5956200" y="2556000"/>
            <a:ext cx="62244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19" name="Object 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956200" y="2556000"/>
                      <a:ext cx="62244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0" name="Rectangle 17"/>
            <p:cNvSpPr/>
            <p:nvPr/>
          </p:nvSpPr>
          <p:spPr>
            <a:xfrm>
              <a:off x="6172200" y="2457360"/>
              <a:ext cx="542880" cy="44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Object 18"/>
          <p:cNvGraphicFramePr/>
          <p:nvPr/>
        </p:nvGraphicFramePr>
        <p:xfrm>
          <a:off x="92160" y="4251240"/>
          <a:ext cx="1638360" cy="812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22" name="Object 1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92160" y="4251240"/>
                    <a:ext cx="1638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19"/>
          <p:cNvGraphicFramePr/>
          <p:nvPr/>
        </p:nvGraphicFramePr>
        <p:xfrm>
          <a:off x="1717560" y="4397400"/>
          <a:ext cx="1536840" cy="507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24" name="Object 1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17560" y="4397400"/>
                    <a:ext cx="1536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20"/>
          <p:cNvGraphicFramePr/>
          <p:nvPr/>
        </p:nvGraphicFramePr>
        <p:xfrm>
          <a:off x="3254400" y="4397400"/>
          <a:ext cx="1473120" cy="507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26" name="Object 2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54400" y="4397400"/>
                    <a:ext cx="1473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21"/>
          <p:cNvGraphicFramePr/>
          <p:nvPr/>
        </p:nvGraphicFramePr>
        <p:xfrm>
          <a:off x="4708440" y="4387680"/>
          <a:ext cx="1498680" cy="50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28" name="Object 2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08440" y="4387680"/>
                    <a:ext cx="149868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22"/>
          <p:cNvGraphicFramePr/>
          <p:nvPr/>
        </p:nvGraphicFramePr>
        <p:xfrm>
          <a:off x="6175440" y="4378320"/>
          <a:ext cx="1498680" cy="507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30" name="Object 2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175440" y="4378320"/>
                    <a:ext cx="14986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23"/>
          <p:cNvGraphicFramePr/>
          <p:nvPr/>
        </p:nvGraphicFramePr>
        <p:xfrm>
          <a:off x="7632720" y="4368960"/>
          <a:ext cx="1511280" cy="507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32" name="Object 23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632720" y="4368960"/>
                    <a:ext cx="15112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3" name="Group 24"/>
          <p:cNvGrpSpPr/>
          <p:nvPr/>
        </p:nvGrpSpPr>
        <p:grpSpPr>
          <a:xfrm>
            <a:off x="1704960" y="5019840"/>
            <a:ext cx="974520" cy="447480"/>
            <a:chOff x="1704960" y="5019840"/>
            <a:chExt cx="974520" cy="447480"/>
          </a:xfrm>
        </p:grpSpPr>
        <p:graphicFrame>
          <p:nvGraphicFramePr>
            <p:cNvPr id="734" name="Object 25"/>
            <p:cNvGraphicFramePr/>
            <p:nvPr/>
          </p:nvGraphicFramePr>
          <p:xfrm>
            <a:off x="1704960" y="5111640"/>
            <a:ext cx="863640" cy="29232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735" name="Object 25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1704960" y="5111640"/>
                      <a:ext cx="863640" cy="2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Rectangle 26"/>
            <p:cNvSpPr/>
            <p:nvPr/>
          </p:nvSpPr>
          <p:spPr>
            <a:xfrm>
              <a:off x="1917720" y="5019840"/>
              <a:ext cx="761760" cy="44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7" name="Object 2"/>
          <p:cNvGraphicFramePr/>
          <p:nvPr/>
        </p:nvGraphicFramePr>
        <p:xfrm>
          <a:off x="184320" y="247680"/>
          <a:ext cx="1498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247680"/>
                    <a:ext cx="1498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3"/>
          <p:cNvGraphicFramePr/>
          <p:nvPr/>
        </p:nvGraphicFramePr>
        <p:xfrm>
          <a:off x="1739880" y="257040"/>
          <a:ext cx="86364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9880" y="257040"/>
                    <a:ext cx="8636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1" name="Object 4"/>
          <p:cNvGraphicFramePr/>
          <p:nvPr/>
        </p:nvGraphicFramePr>
        <p:xfrm>
          <a:off x="2685960" y="266760"/>
          <a:ext cx="106704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5960" y="266760"/>
                    <a:ext cx="10670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Object 5"/>
          <p:cNvGraphicFramePr/>
          <p:nvPr/>
        </p:nvGraphicFramePr>
        <p:xfrm>
          <a:off x="3876840" y="257040"/>
          <a:ext cx="1104840" cy="8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76840" y="257040"/>
                    <a:ext cx="11048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Object 6"/>
          <p:cNvGraphicFramePr/>
          <p:nvPr/>
        </p:nvGraphicFramePr>
        <p:xfrm>
          <a:off x="5086440" y="596880"/>
          <a:ext cx="495360" cy="21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6440" y="596880"/>
                    <a:ext cx="49536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7"/>
          <p:cNvGraphicFramePr/>
          <p:nvPr/>
        </p:nvGraphicFramePr>
        <p:xfrm>
          <a:off x="2095560" y="1374840"/>
          <a:ext cx="1104840" cy="73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95560" y="1374840"/>
                    <a:ext cx="1104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8"/>
          <p:cNvGraphicFramePr/>
          <p:nvPr/>
        </p:nvGraphicFramePr>
        <p:xfrm>
          <a:off x="3301920" y="1403280"/>
          <a:ext cx="1587600" cy="1117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01920" y="1403280"/>
                    <a:ext cx="15876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9"/>
          <p:cNvGraphicFramePr/>
          <p:nvPr/>
        </p:nvGraphicFramePr>
        <p:xfrm>
          <a:off x="181080" y="3209760"/>
          <a:ext cx="1371600" cy="80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1080" y="3209760"/>
                    <a:ext cx="13716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10"/>
          <p:cNvGraphicFramePr/>
          <p:nvPr/>
        </p:nvGraphicFramePr>
        <p:xfrm>
          <a:off x="1609560" y="3359160"/>
          <a:ext cx="6820200" cy="48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5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09560" y="3359160"/>
                    <a:ext cx="6820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11"/>
          <p:cNvGraphicFramePr/>
          <p:nvPr/>
        </p:nvGraphicFramePr>
        <p:xfrm>
          <a:off x="1181160" y="3971880"/>
          <a:ext cx="4838760" cy="723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81160" y="3971880"/>
                    <a:ext cx="4838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12"/>
          <p:cNvGraphicFramePr/>
          <p:nvPr/>
        </p:nvGraphicFramePr>
        <p:xfrm>
          <a:off x="6130800" y="4178160"/>
          <a:ext cx="787680" cy="292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58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30800" y="4178160"/>
                    <a:ext cx="78768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9" name="Object 2"/>
          <p:cNvGraphicFramePr/>
          <p:nvPr/>
        </p:nvGraphicFramePr>
        <p:xfrm>
          <a:off x="260280" y="279360"/>
          <a:ext cx="14223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79360"/>
                    <a:ext cx="1422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3"/>
          <p:cNvGraphicFramePr/>
          <p:nvPr/>
        </p:nvGraphicFramePr>
        <p:xfrm>
          <a:off x="1768320" y="434880"/>
          <a:ext cx="70740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8320" y="434880"/>
                    <a:ext cx="70740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4"/>
          <p:cNvGraphicFramePr/>
          <p:nvPr/>
        </p:nvGraphicFramePr>
        <p:xfrm>
          <a:off x="1384200" y="1162080"/>
          <a:ext cx="48135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4200" y="1162080"/>
                    <a:ext cx="4813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5"/>
          <p:cNvGraphicFramePr/>
          <p:nvPr/>
        </p:nvGraphicFramePr>
        <p:xfrm>
          <a:off x="6321600" y="1368360"/>
          <a:ext cx="787320" cy="29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1600" y="1368360"/>
                    <a:ext cx="7873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270720" y="20160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using sigma notation:  3 + 6 + 9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3156840" y="8017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rithmetic, d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9" name="Object 4"/>
          <p:cNvGraphicFramePr/>
          <p:nvPr/>
        </p:nvGraphicFramePr>
        <p:xfrm>
          <a:off x="3257640" y="1355760"/>
          <a:ext cx="220968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7640" y="135576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5"/>
          <p:cNvGraphicFramePr/>
          <p:nvPr/>
        </p:nvGraphicFramePr>
        <p:xfrm>
          <a:off x="3257640" y="1946160"/>
          <a:ext cx="20955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194616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6"/>
          <p:cNvGraphicFramePr/>
          <p:nvPr/>
        </p:nvGraphicFramePr>
        <p:xfrm>
          <a:off x="3232080" y="2549520"/>
          <a:ext cx="9651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2080" y="2549520"/>
                    <a:ext cx="9651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7"/>
          <p:cNvGraphicFramePr/>
          <p:nvPr/>
        </p:nvGraphicFramePr>
        <p:xfrm>
          <a:off x="3882960" y="3105000"/>
          <a:ext cx="711360" cy="80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2960" y="3105000"/>
                    <a:ext cx="711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7880" y="182520"/>
            <a:ext cx="53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0, 7, 14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81280" y="89676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, d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27720" y="146844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1, 28, 35,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0" y="20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51000" y="2278080"/>
            <a:ext cx="54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x, 2x, 3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976320" y="282096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, d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22040" y="342108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x, 5x, 6x, 7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0" y="4057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17240" y="4087800"/>
            <a:ext cx="56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next four terms of 5k, -k, -7k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033200" y="4716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, d = -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079640" y="53164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-13k, -19k, -25k, -3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250920" y="220680"/>
            <a:ext cx="675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using sigma notation:  16 + 8 + 4 + 2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"/>
          <p:cNvSpPr/>
          <p:nvPr/>
        </p:nvSpPr>
        <p:spPr>
          <a:xfrm>
            <a:off x="3153960" y="80172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metric, r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Object 4"/>
          <p:cNvGraphicFramePr/>
          <p:nvPr/>
        </p:nvGraphicFramePr>
        <p:xfrm>
          <a:off x="3625920" y="1368360"/>
          <a:ext cx="12826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5920" y="136836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5"/>
          <p:cNvGraphicFramePr/>
          <p:nvPr/>
        </p:nvGraphicFramePr>
        <p:xfrm>
          <a:off x="3619440" y="1733400"/>
          <a:ext cx="179064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9440" y="1733400"/>
                    <a:ext cx="179064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6"/>
          <p:cNvGraphicFramePr/>
          <p:nvPr/>
        </p:nvGraphicFramePr>
        <p:xfrm>
          <a:off x="3638520" y="2838600"/>
          <a:ext cx="1562040" cy="8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8520" y="2838600"/>
                    <a:ext cx="15620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251640" y="220680"/>
            <a:ext cx="72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using sigma notation:  19 + 18 + 16 + 12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2518200" y="80172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Arithmetic, Not Geo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Object 4"/>
          <p:cNvGraphicFramePr/>
          <p:nvPr/>
        </p:nvGraphicFramePr>
        <p:xfrm>
          <a:off x="3718080" y="2349360"/>
          <a:ext cx="17269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8080" y="2349360"/>
                    <a:ext cx="1726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5"/>
          <p:cNvGraphicFramePr/>
          <p:nvPr/>
        </p:nvGraphicFramePr>
        <p:xfrm>
          <a:off x="3743280" y="3057480"/>
          <a:ext cx="148608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3057480"/>
                    <a:ext cx="1486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6"/>
          <p:cNvSpPr/>
          <p:nvPr/>
        </p:nvSpPr>
        <p:spPr>
          <a:xfrm>
            <a:off x="3040560" y="1316160"/>
            <a:ext cx="30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+ 18 + 16 + 12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     -2     -4    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267120" y="268200"/>
            <a:ext cx="59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e the following using sigma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Object 3"/>
          <p:cNvGraphicFramePr/>
          <p:nvPr/>
        </p:nvGraphicFramePr>
        <p:xfrm>
          <a:off x="6232680" y="142920"/>
          <a:ext cx="2108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2680" y="142920"/>
                    <a:ext cx="2108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Text Box 4"/>
          <p:cNvSpPr/>
          <p:nvPr/>
        </p:nvSpPr>
        <p:spPr>
          <a:xfrm>
            <a:off x="2253600" y="1039680"/>
            <a:ext cx="44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umerator is geometric, r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nominator is arithmetic d=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444240" y="218268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7" name="Object 6"/>
          <p:cNvGraphicFramePr/>
          <p:nvPr/>
        </p:nvGraphicFramePr>
        <p:xfrm>
          <a:off x="2685960" y="2171880"/>
          <a:ext cx="3733920" cy="49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5960" y="2171880"/>
                    <a:ext cx="37339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Text Box 7"/>
          <p:cNvSpPr/>
          <p:nvPr/>
        </p:nvSpPr>
        <p:spPr>
          <a:xfrm>
            <a:off x="414720" y="290664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MINA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Object 8"/>
          <p:cNvGraphicFramePr/>
          <p:nvPr/>
        </p:nvGraphicFramePr>
        <p:xfrm>
          <a:off x="2971800" y="2965320"/>
          <a:ext cx="582948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965320"/>
                    <a:ext cx="5829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9"/>
          <p:cNvSpPr/>
          <p:nvPr/>
        </p:nvSpPr>
        <p:spPr>
          <a:xfrm>
            <a:off x="421200" y="40021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MA 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Object 10"/>
          <p:cNvGraphicFramePr/>
          <p:nvPr/>
        </p:nvGraphicFramePr>
        <p:xfrm>
          <a:off x="3305160" y="3759120"/>
          <a:ext cx="133344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05160" y="3759120"/>
                    <a:ext cx="13334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809720" y="21096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of Sequences (Uni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174840" y="844560"/>
          <a:ext cx="203220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844560"/>
                    <a:ext cx="20322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4"/>
          <p:cNvGraphicFramePr/>
          <p:nvPr/>
        </p:nvGraphicFramePr>
        <p:xfrm>
          <a:off x="3171960" y="1378080"/>
          <a:ext cx="18666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1960" y="1378080"/>
                    <a:ext cx="1866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5"/>
          <p:cNvGraphicFramePr/>
          <p:nvPr/>
        </p:nvGraphicFramePr>
        <p:xfrm>
          <a:off x="3143160" y="2378160"/>
          <a:ext cx="278136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43160" y="2378160"/>
                    <a:ext cx="27813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6"/>
          <p:cNvGraphicFramePr/>
          <p:nvPr/>
        </p:nvGraphicFramePr>
        <p:xfrm>
          <a:off x="3292560" y="1898640"/>
          <a:ext cx="284472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2560" y="1898640"/>
                    <a:ext cx="2844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7"/>
          <p:cNvGraphicFramePr/>
          <p:nvPr/>
        </p:nvGraphicFramePr>
        <p:xfrm>
          <a:off x="3279600" y="2879640"/>
          <a:ext cx="321336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9600" y="2879640"/>
                    <a:ext cx="32133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8"/>
          <p:cNvGraphicFramePr/>
          <p:nvPr/>
        </p:nvGraphicFramePr>
        <p:xfrm>
          <a:off x="523800" y="3575160"/>
          <a:ext cx="7581960" cy="126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3800" y="3575160"/>
                    <a:ext cx="758196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5720" y="2779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arithmetic sequenc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5025960" y="361800"/>
          <a:ext cx="35686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361800"/>
                    <a:ext cx="3568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Group 4"/>
          <p:cNvGrpSpPr/>
          <p:nvPr/>
        </p:nvGrpSpPr>
        <p:grpSpPr>
          <a:xfrm>
            <a:off x="1971720" y="939960"/>
            <a:ext cx="3349440" cy="2390760"/>
            <a:chOff x="1971720" y="939960"/>
            <a:chExt cx="3349440" cy="2390760"/>
          </a:xfrm>
        </p:grpSpPr>
        <p:graphicFrame>
          <p:nvGraphicFramePr>
            <p:cNvPr id="103" name="Object 5"/>
            <p:cNvGraphicFramePr/>
            <p:nvPr/>
          </p:nvGraphicFramePr>
          <p:xfrm>
            <a:off x="2003400" y="939960"/>
            <a:ext cx="20318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3400" y="93996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6"/>
            <p:cNvGraphicFramePr/>
            <p:nvPr/>
          </p:nvGraphicFramePr>
          <p:xfrm>
            <a:off x="2000160" y="1473120"/>
            <a:ext cx="18669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00160" y="147312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Object 7"/>
            <p:cNvGraphicFramePr/>
            <p:nvPr/>
          </p:nvGraphicFramePr>
          <p:xfrm>
            <a:off x="1971720" y="247320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71720" y="247320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Object 8"/>
            <p:cNvGraphicFramePr/>
            <p:nvPr/>
          </p:nvGraphicFramePr>
          <p:xfrm>
            <a:off x="2120760" y="1994040"/>
            <a:ext cx="2844720" cy="35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0760" y="199404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Object 9"/>
            <p:cNvGraphicFramePr/>
            <p:nvPr/>
          </p:nvGraphicFramePr>
          <p:xfrm>
            <a:off x="2108160" y="2975040"/>
            <a:ext cx="321300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08160" y="297504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Text Box 10"/>
          <p:cNvSpPr/>
          <p:nvPr/>
        </p:nvSpPr>
        <p:spPr>
          <a:xfrm>
            <a:off x="1366920" y="8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262880" y="1897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281600" y="1392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253520" y="23734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271520" y="289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3181320" y="3546360"/>
          <a:ext cx="220968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81320" y="3546360"/>
                    <a:ext cx="22096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6"/>
          <p:cNvGraphicFramePr/>
          <p:nvPr/>
        </p:nvGraphicFramePr>
        <p:xfrm>
          <a:off x="3127320" y="4108320"/>
          <a:ext cx="271800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27320" y="4108320"/>
                    <a:ext cx="2718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7"/>
          <p:cNvSpPr/>
          <p:nvPr/>
        </p:nvSpPr>
        <p:spPr>
          <a:xfrm>
            <a:off x="3128400" y="47926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60280" y="266760"/>
          <a:ext cx="347976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66760"/>
                    <a:ext cx="3479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3"/>
          <p:cNvGrpSpPr/>
          <p:nvPr/>
        </p:nvGrpSpPr>
        <p:grpSpPr>
          <a:xfrm>
            <a:off x="2733840" y="911160"/>
            <a:ext cx="3349440" cy="2390760"/>
            <a:chOff x="2733840" y="911160"/>
            <a:chExt cx="3349440" cy="2390760"/>
          </a:xfrm>
        </p:grpSpPr>
        <p:graphicFrame>
          <p:nvGraphicFramePr>
            <p:cNvPr id="126" name="Object 4"/>
            <p:cNvGraphicFramePr/>
            <p:nvPr/>
          </p:nvGraphicFramePr>
          <p:xfrm>
            <a:off x="2765520" y="911160"/>
            <a:ext cx="203184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5520" y="911160"/>
                      <a:ext cx="203184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5"/>
            <p:cNvGraphicFramePr/>
            <p:nvPr/>
          </p:nvGraphicFramePr>
          <p:xfrm>
            <a:off x="2762280" y="1444320"/>
            <a:ext cx="18669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62280" y="1444320"/>
                      <a:ext cx="18669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Object 6"/>
            <p:cNvGraphicFramePr/>
            <p:nvPr/>
          </p:nvGraphicFramePr>
          <p:xfrm>
            <a:off x="2733840" y="2444400"/>
            <a:ext cx="278136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1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33840" y="2444400"/>
                      <a:ext cx="27813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7"/>
            <p:cNvGraphicFramePr/>
            <p:nvPr/>
          </p:nvGraphicFramePr>
          <p:xfrm>
            <a:off x="2882880" y="1965240"/>
            <a:ext cx="2844720" cy="35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82880" y="1965240"/>
                      <a:ext cx="2844720" cy="35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8"/>
            <p:cNvGraphicFramePr/>
            <p:nvPr/>
          </p:nvGraphicFramePr>
          <p:xfrm>
            <a:off x="2870280" y="2946240"/>
            <a:ext cx="3213000" cy="35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5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70280" y="2946240"/>
                      <a:ext cx="321300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Text Box 9"/>
          <p:cNvSpPr/>
          <p:nvPr/>
        </p:nvSpPr>
        <p:spPr>
          <a:xfrm>
            <a:off x="1977120" y="83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996200" y="1868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967400" y="1363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071800" y="234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034000" y="286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14"/>
          <p:cNvGraphicFramePr/>
          <p:nvPr/>
        </p:nvGraphicFramePr>
        <p:xfrm>
          <a:off x="638280" y="3994200"/>
          <a:ext cx="220968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8280" y="3994200"/>
                    <a:ext cx="2209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5"/>
          <p:cNvGraphicFramePr/>
          <p:nvPr/>
        </p:nvGraphicFramePr>
        <p:xfrm>
          <a:off x="679320" y="4600440"/>
          <a:ext cx="2908440" cy="83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4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9320" y="4600440"/>
                    <a:ext cx="29084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16"/>
          <p:cNvSpPr/>
          <p:nvPr/>
        </p:nvSpPr>
        <p:spPr>
          <a:xfrm>
            <a:off x="1072440" y="1344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3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17"/>
          <p:cNvGraphicFramePr/>
          <p:nvPr/>
        </p:nvGraphicFramePr>
        <p:xfrm>
          <a:off x="4984920" y="3857760"/>
          <a:ext cx="2031840" cy="723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7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84920" y="3857760"/>
                    <a:ext cx="2031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18"/>
          <p:cNvGraphicFramePr/>
          <p:nvPr/>
        </p:nvGraphicFramePr>
        <p:xfrm>
          <a:off x="4927680" y="4686480"/>
          <a:ext cx="2755800" cy="723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9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27680" y="4686480"/>
                    <a:ext cx="275580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9"/>
          <p:cNvGraphicFramePr/>
          <p:nvPr/>
        </p:nvGraphicFramePr>
        <p:xfrm>
          <a:off x="4962600" y="5619600"/>
          <a:ext cx="1562040" cy="381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1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62600" y="5619600"/>
                    <a:ext cx="15620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1924200" y="152280"/>
          <a:ext cx="39240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4200" y="152280"/>
                    <a:ext cx="3924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3"/>
          <p:cNvSpPr/>
          <p:nvPr/>
        </p:nvSpPr>
        <p:spPr>
          <a:xfrm>
            <a:off x="80280" y="777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his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500560" y="677880"/>
            <a:ext cx="4106520" cy="2488680"/>
            <a:chOff x="2500560" y="677880"/>
            <a:chExt cx="4106520" cy="2488680"/>
          </a:xfrm>
        </p:grpSpPr>
        <p:grpSp>
          <p:nvGrpSpPr>
            <p:cNvPr id="156" name="Group 5"/>
            <p:cNvGrpSpPr/>
            <p:nvPr/>
          </p:nvGrpSpPr>
          <p:grpSpPr>
            <a:xfrm>
              <a:off x="3257640" y="749160"/>
              <a:ext cx="3349440" cy="2390760"/>
              <a:chOff x="3257640" y="749160"/>
              <a:chExt cx="3349440" cy="2390760"/>
            </a:xfrm>
          </p:grpSpPr>
          <p:graphicFrame>
            <p:nvGraphicFramePr>
              <p:cNvPr id="157" name="Object 6"/>
              <p:cNvGraphicFramePr/>
              <p:nvPr/>
            </p:nvGraphicFramePr>
            <p:xfrm>
              <a:off x="3289320" y="749160"/>
              <a:ext cx="2031840" cy="36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8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89320" y="749160"/>
                        <a:ext cx="203184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9" name="Object 7"/>
              <p:cNvGraphicFramePr/>
              <p:nvPr/>
            </p:nvGraphicFramePr>
            <p:xfrm>
              <a:off x="3286080" y="1282320"/>
              <a:ext cx="186696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0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86080" y="1282320"/>
                        <a:ext cx="18669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1" name="Object 8"/>
              <p:cNvGraphicFramePr/>
              <p:nvPr/>
            </p:nvGraphicFramePr>
            <p:xfrm>
              <a:off x="3257640" y="2282400"/>
              <a:ext cx="2781360" cy="368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62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57640" y="2282400"/>
                        <a:ext cx="27813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3" name="Object 9"/>
              <p:cNvGraphicFramePr/>
              <p:nvPr/>
            </p:nvGraphicFramePr>
            <p:xfrm>
              <a:off x="3406680" y="1803240"/>
              <a:ext cx="2844720" cy="35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64" name="Object 9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406680" y="1803240"/>
                        <a:ext cx="2844720" cy="35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Object 10"/>
              <p:cNvGraphicFramePr/>
              <p:nvPr/>
            </p:nvGraphicFramePr>
            <p:xfrm>
              <a:off x="3394080" y="2784240"/>
              <a:ext cx="3213000" cy="355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66" name="Object 10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394080" y="2784240"/>
                        <a:ext cx="321300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67" name="Text Box 11"/>
            <p:cNvSpPr/>
            <p:nvPr/>
          </p:nvSpPr>
          <p:spPr>
            <a:xfrm>
              <a:off x="2500560" y="6778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520000" y="1706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2633760" y="120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2501280" y="2182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2509920" y="27068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2" name="Object 16"/>
          <p:cNvGraphicFramePr/>
          <p:nvPr/>
        </p:nvGraphicFramePr>
        <p:xfrm>
          <a:off x="3228840" y="3422520"/>
          <a:ext cx="221004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28840" y="3422520"/>
                    <a:ext cx="2210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7"/>
          <p:cNvGraphicFramePr/>
          <p:nvPr/>
        </p:nvGraphicFramePr>
        <p:xfrm>
          <a:off x="3111480" y="4022640"/>
          <a:ext cx="284472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11480" y="4022640"/>
                    <a:ext cx="2844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8"/>
          <p:cNvGraphicFramePr/>
          <p:nvPr/>
        </p:nvGraphicFramePr>
        <p:xfrm>
          <a:off x="3086280" y="4572000"/>
          <a:ext cx="914400" cy="380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086280" y="4572000"/>
                    <a:ext cx="914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241200" y="244440"/>
          <a:ext cx="466092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244440"/>
                    <a:ext cx="46609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Group 3"/>
          <p:cNvGrpSpPr/>
          <p:nvPr/>
        </p:nvGrpSpPr>
        <p:grpSpPr>
          <a:xfrm>
            <a:off x="2358360" y="839880"/>
            <a:ext cx="4200840" cy="3014640"/>
            <a:chOff x="2358360" y="839880"/>
            <a:chExt cx="4200840" cy="3014640"/>
          </a:xfrm>
        </p:grpSpPr>
        <p:grpSp>
          <p:nvGrpSpPr>
            <p:cNvPr id="181" name="Group 4"/>
            <p:cNvGrpSpPr/>
            <p:nvPr/>
          </p:nvGrpSpPr>
          <p:grpSpPr>
            <a:xfrm>
              <a:off x="3209760" y="911160"/>
              <a:ext cx="3349440" cy="2390760"/>
              <a:chOff x="3209760" y="911160"/>
              <a:chExt cx="3349440" cy="2390760"/>
            </a:xfrm>
          </p:grpSpPr>
          <p:graphicFrame>
            <p:nvGraphicFramePr>
              <p:cNvPr id="182" name="Object 5"/>
              <p:cNvGraphicFramePr/>
              <p:nvPr/>
            </p:nvGraphicFramePr>
            <p:xfrm>
              <a:off x="3241440" y="911160"/>
              <a:ext cx="2031840" cy="368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3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41440" y="911160"/>
                        <a:ext cx="203184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Object 6"/>
              <p:cNvGraphicFramePr/>
              <p:nvPr/>
            </p:nvGraphicFramePr>
            <p:xfrm>
              <a:off x="3238200" y="1444320"/>
              <a:ext cx="1866960" cy="36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5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38200" y="1444320"/>
                        <a:ext cx="18669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6" name="Object 7"/>
              <p:cNvGraphicFramePr/>
              <p:nvPr/>
            </p:nvGraphicFramePr>
            <p:xfrm>
              <a:off x="3209760" y="2444400"/>
              <a:ext cx="2781360" cy="3682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87" name="Object 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09760" y="2444400"/>
                        <a:ext cx="2781360" cy="36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8" name="Object 8"/>
              <p:cNvGraphicFramePr/>
              <p:nvPr/>
            </p:nvGraphicFramePr>
            <p:xfrm>
              <a:off x="3358800" y="1965240"/>
              <a:ext cx="2844720" cy="35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9" name="Object 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358800" y="1965240"/>
                        <a:ext cx="2844720" cy="35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0" name="Object 9"/>
              <p:cNvGraphicFramePr/>
              <p:nvPr/>
            </p:nvGraphicFramePr>
            <p:xfrm>
              <a:off x="3346200" y="2946240"/>
              <a:ext cx="3213000" cy="355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1" name="Object 9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346200" y="2946240"/>
                        <a:ext cx="3213000" cy="35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92" name="Text Box 10"/>
            <p:cNvSpPr/>
            <p:nvPr/>
          </p:nvSpPr>
          <p:spPr>
            <a:xfrm>
              <a:off x="2538720" y="83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253872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2358360" y="13636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2434680" y="234468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2462760" y="2868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" name="Object 15"/>
            <p:cNvGraphicFramePr/>
            <p:nvPr/>
          </p:nvGraphicFramePr>
          <p:xfrm>
            <a:off x="3228840" y="3422520"/>
            <a:ext cx="2210040" cy="43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8" name="Object 1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28840" y="3422520"/>
                      <a:ext cx="221004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9" name="Object 16"/>
          <p:cNvGraphicFramePr/>
          <p:nvPr/>
        </p:nvGraphicFramePr>
        <p:xfrm>
          <a:off x="3092400" y="4051440"/>
          <a:ext cx="2502000" cy="431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92400" y="4051440"/>
                    <a:ext cx="250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7"/>
          <p:cNvGraphicFramePr/>
          <p:nvPr/>
        </p:nvGraphicFramePr>
        <p:xfrm>
          <a:off x="3102120" y="4702320"/>
          <a:ext cx="2463480" cy="2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102120" y="4702320"/>
                    <a:ext cx="24634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18"/>
          <p:cNvSpPr/>
          <p:nvPr/>
        </p:nvSpPr>
        <p:spPr>
          <a:xfrm>
            <a:off x="3280680" y="51451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5:13:37Z</dcterms:created>
  <dc:creator>James A Aiu</dc:creator>
  <dc:description/>
  <dc:language>en-US</dc:language>
  <cp:lastModifiedBy>lucy.chambers</cp:lastModifiedBy>
  <dcterms:modified xsi:type="dcterms:W3CDTF">2011-01-07T17:03:18Z</dcterms:modified>
  <cp:revision>3</cp:revision>
  <dc:subject/>
  <dc:title>PowerPoint Presentation</dc:title>
</cp:coreProperties>
</file>